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7117-78FD-4A17-A9F1-8BDD9532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8734-AC98-47D2-A3C1-D3F6674E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C457-0983-4612-AB7A-55A854EB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8747-F7AD-4145-910B-6F590F36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3B77-932A-4946-B9EC-421F80E0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B5D-4CB0-43E2-BD0D-D9D958C4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3E7C-E87A-4727-AC32-FCE51B6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7C65-12AD-4492-935C-624E20A6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9570-0199-42DD-A3D8-BF3D29B4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BA6B-4AB2-4AD9-8F15-8B3B0286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0221-5640-4CA7-9421-06A0553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CA45-2870-4BE8-9E88-1A52922D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0A30-6197-433B-833F-AD80DBE7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CF40-65F2-40D8-9439-F5A301F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34CC-71C7-48D3-B19E-E4B1E581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F9A1-C20B-4017-886C-1A4B39E6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7489-68D9-4555-A3F0-194B92F3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5A12-2AB6-4BF7-88AE-FC0F2EAB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D0FF-233B-4B23-9443-F4FE3315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F6E8-0013-42AC-B415-E055513A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B17A-1F77-4994-8B1C-9F76EF14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B5A5-706E-4F37-B6B6-E732F8A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3BD6-0AF0-4216-B88B-426648E8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6664-D361-46EE-B233-372C787A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DCF0-E67D-4FC1-A0F6-1CB294A2E2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22F7-0F52-40B1-B7CC-043AA453F4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Who was Gregor Mendel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he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s and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ttle Vocabulary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26920" y="1446120"/>
            <a:ext cx="76327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57680" y="259920"/>
            <a:ext cx="44863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Cross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greg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203800" cy="5661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94836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lease complete 11.1 assessment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3:38:50Z</dcterms:created>
  <dc:creator>IBM</dc:creator>
  <dc:description/>
  <dc:language>en-US</dc:language>
  <cp:lastModifiedBy>IBM</cp:lastModifiedBy>
  <dcterms:modified xsi:type="dcterms:W3CDTF">2007-11-29T01:59:31Z</dcterms:modified>
  <cp:revision>5</cp:revision>
  <dc:subject/>
  <dc:title>Who was Gregor Mendel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