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C6EF-5821-4D0C-9642-C849799B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BF89-E717-44F0-99E2-7942AE4C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6BF5-6222-4073-9D20-37FD89C8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722A-4F3E-4EFA-9AF5-FFB78E0D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5E6F-5EF4-432F-9B12-F1E088E4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07F9-BF8F-4460-B4C1-EDE0EB5B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2F32-4380-4AAB-96BD-2B0BDB7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8D48-9BAA-4FD1-827F-0E9A55FA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F920-2876-4538-80F6-FF94E853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1546-BBBD-4880-A1B6-6BD1F1C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D6E0-5B44-4BF0-9CD8-81491267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320E-E5CE-4123-8354-B1628D96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7819-B73F-4DD9-A18D-7E811C91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4ED7-69D3-4C51-A9A6-37F3AB2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77EA-7AA7-456C-9F2D-4E6FB5A2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917B-41A6-4DEC-806D-BEF7ADD2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6C09-2B76-44DE-904F-266F5EA9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89AC-0B2C-4E91-BAA2-AA5BA440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EE26-E316-46F0-9D0A-B63EA472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6FE3-7BFF-4B67-B8B7-B20255BD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CE27-88F9-4F1C-8CD9-C7D453B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F7CF-22CE-44F4-BF0C-B5D642D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BD49-9E41-495C-A1D3-64346051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0144-0544-4A81-9A3D-17B5579F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3B58-0009-4E51-B772-BE89A406FD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7F0A-80D9-431D-949E-10E3E95230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Who was Gregor Mendel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he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s and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ttle Vocabulary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26920" y="1446120"/>
            <a:ext cx="76327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57680" y="259920"/>
            <a:ext cx="44863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Cross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greg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203800" cy="5661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94836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lease complete 11.1 assessment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3:38:50Z</dcterms:created>
  <dc:creator>IBM</dc:creator>
  <dc:description/>
  <dc:language>en-US</dc:language>
  <cp:lastModifiedBy>IBM</cp:lastModifiedBy>
  <dcterms:modified xsi:type="dcterms:W3CDTF">2007-11-29T01:59:31Z</dcterms:modified>
  <cp:revision>5</cp:revision>
  <dc:subject/>
  <dc:title>Who was Gregor Mendel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