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AE8C9-658B-4535-A349-C89713923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3A892-9882-4F52-B05E-301904D6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23C4E-1AB2-417D-A04A-CC97596F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CAA47-7F11-40B1-AC9D-B3217B07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5A46-1425-417E-B5FC-4BB1AA56E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7351-B91A-4729-AF97-37A5B6FF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8FD0-C23A-40DE-9396-2543DD34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5723-2044-4A95-9B37-6FC74D7F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7C7F-DC8B-42C3-B914-26A095E0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6ADF-13E0-44EE-8273-16BAAD79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E754-EC32-4C30-A080-E10099C4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F85C4-3679-462F-A6A2-53286EEE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FCC4-0B7E-48E1-9F77-DC1DED53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170E-A974-408B-B439-0BB2073D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EBCF-ABB3-488A-85BD-DF7F26A7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3CD3-5E37-4D12-B81C-27927229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5851-4C78-4A6A-94C3-7609D6358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C4691-D2D8-45F2-8DD5-03B2C5E1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AA4FF-F69D-4080-98A9-1D9CA255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0BF75-4446-45FC-B77C-D904BF96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24A10-32B2-4940-95AF-CB6A28F6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FF969-A398-478E-B2AA-B595810A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18F12-CA5D-4AB1-AD6E-65CEDA5A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5E4FD-837A-4C7A-B62E-504A586A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1F98-C72B-41D6-9B49-2D437B2769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AE2A-6A55-4416-9B3A-010EA84E37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Who was Gregor Mendel?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id he 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enes and Domina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ttle Vocabulary for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e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br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826920" y="1446120"/>
            <a:ext cx="763272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57680" y="259920"/>
            <a:ext cx="44863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endel’s Cross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5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egreg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5203800" cy="5661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948360" y="4076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greg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836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Please complete 11.1 assessment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03:38:50Z</dcterms:created>
  <dc:creator>IBM</dc:creator>
  <dc:description/>
  <dc:language>en-US</dc:language>
  <cp:lastModifiedBy>IBM</cp:lastModifiedBy>
  <dcterms:modified xsi:type="dcterms:W3CDTF">2007-11-29T01:59:31Z</dcterms:modified>
  <cp:revision>5</cp:revision>
  <dc:subject/>
  <dc:title>Who was Gregor Mendel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