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FC26-1D33-49C4-8AB6-CC736418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11DD-21E8-4A5F-B799-3A6AB1EC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E3BA-4C57-4B18-A842-362149C2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D07E-9E7E-464B-A4E4-53C8F163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4979-8C78-418F-8BE6-FD069BB2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89DC-D49C-48CD-84AF-C8825524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6AA9-B22E-45CE-8D13-B9CD079D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08A8-29DD-4E46-B8C8-0D0F2612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A845-5B32-416C-9D8A-BB85AD5A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C5AA-D69D-4837-8D36-DF771643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2CB6-4164-416A-A803-9828B180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4714-9D14-49B8-808F-8A95AB0F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87B2-5DBF-46BF-B21C-9EFCBD95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ADED-2AF5-472B-9FFA-C03D813E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169E-DE66-4B29-9720-676EE64C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5073-44AD-4662-9964-6D48A566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FA2C-00C2-4DC4-9E25-F63F25B5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865D-17C5-4EED-91BA-D6FB97C2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F5AF-DE00-4B3C-B4D0-969976A3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4F08-AF5F-44EB-86CB-C4613D3D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58B6-CDC8-43A0-BB67-D68C9E0C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14C2-4966-458F-A8D0-828CCEAD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76A9-C77F-4F1A-A387-181307DB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A794-24C3-43C3-B089-0FD5A90E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9668-7A53-42CC-A0E0-AAD315AC3E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F97F-2531-4648-AABF-0851BA3D60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Who was Gregor Mendel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he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es and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ttle Vocabulary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br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826920" y="1446120"/>
            <a:ext cx="76327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57680" y="259920"/>
            <a:ext cx="44863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ndel’s Cross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greg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203800" cy="5661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948360" y="40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re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lease complete 11.1 assessment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3:38:50Z</dcterms:created>
  <dc:creator>IBM</dc:creator>
  <dc:description/>
  <dc:language>en-US</dc:language>
  <cp:lastModifiedBy>IBM</cp:lastModifiedBy>
  <dcterms:modified xsi:type="dcterms:W3CDTF">2007-11-29T01:59:31Z</dcterms:modified>
  <cp:revision>5</cp:revision>
  <dc:subject/>
  <dc:title>Who was Gregor Mendel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