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C0A-5AA6-4C19-B400-97D56CC7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599-A879-4124-995D-DB8D4BA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825-422C-46AC-A82B-6012D086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CC6-460D-4EA4-8DA3-509AF2CF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1370-B26C-41FB-A445-E974129E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69C2-E2E0-4C53-B1A6-CFC93C84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774-958D-48B7-9116-F3D1A48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27C-BD5D-4E81-AC5B-792AA52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EA4-7F00-4DB8-8E63-E79F21F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D761-AE56-45B0-8368-48466846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F6B5-2ACE-4C52-958B-739E66D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32E-36D1-4C49-9778-8648A78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050F-24A2-4F89-A7A3-0AFCBB1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B63-8A08-4440-9EB6-9410D8C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4F4-5F58-4C68-95B0-5FB67F8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6FA-AC50-4A85-A96E-657DC0E2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B03-E123-46B7-9BAB-128D25E4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690-27E5-4EFE-A804-2477226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A3B-D931-4883-949F-1433920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FB2-93B6-4412-BC1B-799D444C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2AD-FFD1-4729-ABA9-D86D121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840-72C5-4812-B906-25A54B9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4A7-BB3E-402D-940D-37F1276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665-8424-489F-AC30-6C718F2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B0B-2486-4221-A653-4F3B1A56B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29F-7220-41DB-A221-11C5F88F57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Light Dependent Rea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light to make ATP and electron 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0" y="787320"/>
          <a:ext cx="9144000" cy="60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7320"/>
                    <a:ext cx="914400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0" y="1197000"/>
          <a:ext cx="914400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6"/>
          <p:cNvSpPr/>
          <p:nvPr/>
        </p:nvSpPr>
        <p:spPr>
          <a:xfrm>
            <a:off x="197964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NAD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2087640" y="1447920"/>
          <a:ext cx="49687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1447920"/>
                    <a:ext cx="4968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our stored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28760" y="646200"/>
          <a:ext cx="828180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6200"/>
                    <a:ext cx="8281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7"/>
          <p:cNvSpPr/>
          <p:nvPr/>
        </p:nvSpPr>
        <p:spPr>
          <a:xfrm>
            <a:off x="407196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500280" y="121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CO</a:t>
            </a: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357880" y="235728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643720" y="221472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857840" y="2286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084640" y="3286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298840" y="4572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6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26720" y="5500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 molecule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41480" y="43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molecules of 3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27320" y="2357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olecules of 5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43240" y="6286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4214880" y="6215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3929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Glucose or other sug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44:33Z</dcterms:created>
  <dc:creator>IBM</dc:creator>
  <dc:description/>
  <dc:language>en-US</dc:language>
  <cp:lastModifiedBy>IBM</cp:lastModifiedBy>
  <dcterms:modified xsi:type="dcterms:W3CDTF">2007-10-11T06:40:17Z</dcterms:modified>
  <cp:revision>10</cp:revision>
  <dc:subject/>
  <dc:title>The Light Dependent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