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A4B-73F7-426B-BB5E-35CDCA52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E683-58EB-4F7D-9630-B674EF2D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180-3BE1-45E5-A519-BA485B95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19C4-C456-46E2-B70E-6B54BC38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705B-219A-4DE5-9C73-57745856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AC58-BA59-4A2E-AC72-D2EFE8C5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D45C-F284-429C-A560-E8A05CCB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D4CB-F4FF-4F03-972A-2ED18544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216B-8ED0-47A3-9205-2B044CC8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1935-22A7-464E-8DB0-756D7396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A146-1304-40BE-B6B7-925B911A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DB9A-CA78-4EE6-9048-E77B3BF0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4E05-2A2B-4311-91B4-96B221C1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31C4-65D9-4959-8081-2930C4A2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FB08-0E32-4A6F-A98C-3367D12A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767E-2A05-4577-BA1B-4012783E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C2C2-AB6F-4F65-860A-A74D76B3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86D-DD6C-466D-9F7E-6DC18E69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AE85-D11F-4730-B852-DE899970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EB6-AD9E-4D89-856E-4361DDDC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67B-57C0-4C2E-8FA9-2DBF6414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B6F2-28E2-4A4B-82FA-7479BCDA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BA74-62E6-4406-8B47-5E72FDE3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D9E-9722-46A0-905F-ACCC1022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20D0-2214-408A-A8C9-B9C04CCDB4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5191-A35E-48B2-90DB-F3DE174B6D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Light Dependent Rea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ing light to make ATP and electron C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Object 3"/>
          <p:cNvGraphicFramePr/>
          <p:nvPr/>
        </p:nvGraphicFramePr>
        <p:xfrm>
          <a:off x="0" y="0"/>
          <a:ext cx="9144000" cy="68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king A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Object 8"/>
          <p:cNvGraphicFramePr/>
          <p:nvPr/>
        </p:nvGraphicFramePr>
        <p:xfrm>
          <a:off x="0" y="787320"/>
          <a:ext cx="9144000" cy="605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87320"/>
                    <a:ext cx="9144000" cy="60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Object 3"/>
          <p:cNvGraphicFramePr/>
          <p:nvPr/>
        </p:nvGraphicFramePr>
        <p:xfrm>
          <a:off x="0" y="1197000"/>
          <a:ext cx="9144000" cy="56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 Box 6"/>
          <p:cNvSpPr/>
          <p:nvPr/>
        </p:nvSpPr>
        <p:spPr>
          <a:xfrm>
            <a:off x="1979640" y="2602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ing NAD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2087640" y="1447920"/>
          <a:ext cx="4968720" cy="41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7640" y="1447920"/>
                    <a:ext cx="496872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our stored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428760" y="646200"/>
          <a:ext cx="8281800" cy="62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646200"/>
                    <a:ext cx="82818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Box 7"/>
          <p:cNvSpPr/>
          <p:nvPr/>
        </p:nvSpPr>
        <p:spPr>
          <a:xfrm>
            <a:off x="4071960" y="1214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3500280" y="1214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3 Molecules of CO</a:t>
            </a:r>
            <a:r>
              <a:rPr b="0" lang="en-US" sz="10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5357880" y="2357280"/>
            <a:ext cx="1071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5643720" y="221472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4857840" y="2286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6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084640" y="32860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6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5298840" y="45720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6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3726720" y="55008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1 molecule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1941480" y="43578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5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2227320" y="23572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3 molecules of 5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4143240" y="628668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18"/>
          <p:cNvSpPr/>
          <p:nvPr/>
        </p:nvSpPr>
        <p:spPr>
          <a:xfrm>
            <a:off x="4214880" y="6215040"/>
            <a:ext cx="1143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19"/>
          <p:cNvSpPr/>
          <p:nvPr/>
        </p:nvSpPr>
        <p:spPr>
          <a:xfrm>
            <a:off x="3929040" y="62118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Glucose or other sug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03:44:33Z</dcterms:created>
  <dc:creator>IBM</dc:creator>
  <dc:description/>
  <dc:language>en-US</dc:language>
  <cp:lastModifiedBy>IBM</cp:lastModifiedBy>
  <dcterms:modified xsi:type="dcterms:W3CDTF">2007-10-11T06:40:17Z</dcterms:modified>
  <cp:revision>10</cp:revision>
  <dc:subject/>
  <dc:title>The Light Dependent Rea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