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E3E-4292-4B66-AEA5-20D2DFD9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4BE-A106-4C2D-916F-E743FBA5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6EB-123E-4FE5-9FD4-CD450998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445-6881-463B-8F78-BE4B4DC1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893C-D298-461B-BB5A-61AD20E8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3E9C-8E5D-491C-B766-B595F2B2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B5C4-EAB6-4467-8501-01BCD175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1082-2BBB-47B5-AAC5-0F25BB1F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69BD-22C1-4DE0-802E-FD50A79F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0E3F-5F91-4D87-888A-C2A263F8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C374-C8BC-47D7-8CB9-6AD97F5B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EBA-7621-43F5-98DC-B98B5297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7B4C-6B8A-4E53-9F03-0772DE29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59C7-A7E7-4392-9E73-B186074F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C913-2B9E-480C-A6F9-EE7586EC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79AA-11FC-49DE-8915-F4B330BF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8CEB-84DD-47F7-AF82-D7F21AB9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414-8E5F-4559-95C3-A38D0C9E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8E8-5D4A-41EC-9BDC-D9E9ECE4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996-CCDC-422A-8952-B7636933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6A6-3F8D-4625-8B81-0B2B0C54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799-C766-46C5-86D4-173A2A8D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779-9480-40D1-9127-5E2286A8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438-48D4-4557-8EFD-914FB527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577C-3375-49FC-A192-715579A95C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2E68-7DF5-4E2A-A2CF-B5AEE388BE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Light Dependent Rea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ing light to make ATP and electron C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Object 3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A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8"/>
          <p:cNvGraphicFramePr/>
          <p:nvPr/>
        </p:nvGraphicFramePr>
        <p:xfrm>
          <a:off x="0" y="787320"/>
          <a:ext cx="9144000" cy="605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87320"/>
                    <a:ext cx="914400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3"/>
          <p:cNvGraphicFramePr/>
          <p:nvPr/>
        </p:nvGraphicFramePr>
        <p:xfrm>
          <a:off x="0" y="1197000"/>
          <a:ext cx="9144000" cy="56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6"/>
          <p:cNvSpPr/>
          <p:nvPr/>
        </p:nvSpPr>
        <p:spPr>
          <a:xfrm>
            <a:off x="1979640" y="260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ing NAD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2087640" y="1447920"/>
          <a:ext cx="4968720" cy="41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1447920"/>
                    <a:ext cx="49687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our stored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428760" y="646200"/>
          <a:ext cx="8281800" cy="62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646200"/>
                    <a:ext cx="82818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Box 7"/>
          <p:cNvSpPr/>
          <p:nvPr/>
        </p:nvSpPr>
        <p:spPr>
          <a:xfrm>
            <a:off x="4071960" y="121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3500280" y="121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3 Molecules of CO</a:t>
            </a:r>
            <a:r>
              <a:rPr b="0" lang="en-US" sz="10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5357880" y="2357280"/>
            <a:ext cx="1071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5643720" y="221472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4857840" y="2286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084640" y="32860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5298840" y="45720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726720" y="55008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1 molecule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941480" y="43578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5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227320" y="23572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3 molecules of 5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4143240" y="628668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8"/>
          <p:cNvSpPr/>
          <p:nvPr/>
        </p:nvSpPr>
        <p:spPr>
          <a:xfrm>
            <a:off x="4214880" y="6215040"/>
            <a:ext cx="1143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19"/>
          <p:cNvSpPr/>
          <p:nvPr/>
        </p:nvSpPr>
        <p:spPr>
          <a:xfrm>
            <a:off x="3929040" y="62118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Glucose or other sug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3:44:33Z</dcterms:created>
  <dc:creator>IBM</dc:creator>
  <dc:description/>
  <dc:language>en-US</dc:language>
  <cp:lastModifiedBy>IBM</cp:lastModifiedBy>
  <dcterms:modified xsi:type="dcterms:W3CDTF">2007-10-11T06:40:17Z</dcterms:modified>
  <cp:revision>10</cp:revision>
  <dc:subject/>
  <dc:title>The Light Dependent Rea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