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477-CF4B-46BF-AA41-F71117AB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FDA-2A37-448C-A6E7-5CC61D48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CA6-9E7D-4BE3-99BA-09F0EB71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4AC-1CB0-4F50-917B-15BEDCE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F71-0D27-4CAA-B9A6-934E385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C97-15CD-45B6-8ECA-4EE043E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33B-6054-43C4-9314-BCDCA225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327-76D1-4A2E-B7BC-9B8692DC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411-7208-43CB-ACBD-7A17A19D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E5C-F2E8-4B83-BA40-09E8E70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991-F2DD-421B-96BB-6B10221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237-B0E8-4A82-9764-EEEA93A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F77-CC9C-4B18-9314-109AC71B2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hyperlink" Target="file:///SolidsLiquidsAndGases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723888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8:07:18Z</dcterms:created>
  <dc:creator>John Perry</dc:creator>
  <dc:description/>
  <dc:language>en-US</dc:language>
  <cp:lastModifiedBy>John Perry</cp:lastModifiedBy>
  <dcterms:modified xsi:type="dcterms:W3CDTF">2004-12-17T20:53:12Z</dcterms:modified>
  <cp:revision>24</cp:revision>
  <dc:subject/>
  <dc:title>PowerPoint Presentation</dc:title>
</cp:coreProperties>
</file>