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511-1FD2-43F0-B0F3-22BCAFF4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F86-691D-422D-9D84-60245EC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F9A-3685-4F1D-9901-71821AC4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10C-4FE8-44C9-9570-071514B8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ECE-7186-46FA-8C12-12DB7FC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492-6545-43C2-B298-C168600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B5E-BD4A-4B4E-AB29-A4855229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607-AC9B-4765-AD71-101D9B3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75F-9204-43D8-BC29-85AB0056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F0A-7FD2-48AC-9C96-EDE756E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735-F681-4CC4-9D7C-99408EA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A19-A123-4DFB-8FD2-1311D70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8C9D-9372-4C69-B52C-75EE973A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hyperlink" Target="file:///SolidsLiquidsAndGases.ppt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723888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8:07:18Z</dcterms:created>
  <dc:creator>John Perry</dc:creator>
  <dc:description/>
  <dc:language>en-US</dc:language>
  <cp:lastModifiedBy>John Perry</cp:lastModifiedBy>
  <dcterms:modified xsi:type="dcterms:W3CDTF">2004-12-17T20:53:12Z</dcterms:modified>
  <cp:revision>24</cp:revision>
  <dc:subject/>
  <dc:title>PowerPoint Presentation</dc:title>
</cp:coreProperties>
</file>