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4A1-1E98-4803-9922-C21B93FC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4B0-5F63-4896-ABFE-2AABA8D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DD8-A538-4274-94D4-AC6EB1E5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495-8E6F-4F8E-A005-5018DF9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BFF-4E47-437A-9FEF-48B51CB1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0F0-E39A-48E5-A3D0-829DC46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92C-9EBE-4F2A-B330-3D8A5AF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610-9C65-4EDD-8BD6-00101354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ABF-7CF4-4F01-9AB3-709D233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C85-0D2C-4E68-984E-2987FBD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A1A-A181-4577-92DD-C1C1590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5F4-9A93-405B-812D-D0C78B6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1DEE-4BF2-4813-AFC3-17C976ED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hyperlink" Target="file:///SolidsLiquidsAndGases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723888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8:07:18Z</dcterms:created>
  <dc:creator>John Perry</dc:creator>
  <dc:description/>
  <dc:language>en-US</dc:language>
  <cp:lastModifiedBy>John Perry</cp:lastModifiedBy>
  <dcterms:modified xsi:type="dcterms:W3CDTF">2004-12-17T20:53:12Z</dcterms:modified>
  <cp:revision>24</cp:revision>
  <dc:subject/>
  <dc:title>PowerPoint Presentation</dc:title>
</cp:coreProperties>
</file>