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00C6E-B57E-425B-A1DB-ECCE8E39C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D5382-B992-49B7-8A9F-20554CD78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BDF1E-3BD5-47CF-A3C4-27499A9C9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DA267-0D07-48CF-AF93-A840A613B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1C295-2C87-4C68-AFC0-3E4F95661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506C0-EA82-4726-A2BB-67651283F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778B6-59E6-4C6A-943A-734625B08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79A46-D546-4E9A-B284-FF5F01387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4F5EF-0680-4FE6-94AE-F576A2378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8541E-A69B-4E74-9EA0-B5446719D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EC753-E757-4EB2-97C3-5A7F2C7EE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74296-389D-43E2-A4B4-09B7DF19F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D2B00-D81A-4E7E-B50B-B5FB187922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.png"/><Relationship Id="rId3" Type="http://schemas.openxmlformats.org/officeDocument/2006/relationships/hyperlink" Target="file:///SolidsLiquidsAndGases.ppt" TargetMode="External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240" y="3240"/>
            <a:ext cx="9140760" cy="68547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257800" y="6172200"/>
            <a:ext cx="1905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>
            <a:hlinkClick r:id="rId3"/>
          </p:cNvPr>
          <p:cNvSpPr/>
          <p:nvPr/>
        </p:nvSpPr>
        <p:spPr>
          <a:xfrm>
            <a:off x="7238880" y="6172200"/>
            <a:ext cx="1905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1T08:07:18Z</dcterms:created>
  <dc:creator>John Perry</dc:creator>
  <dc:description/>
  <dc:language>en-US</dc:language>
  <cp:lastModifiedBy>John Perry</cp:lastModifiedBy>
  <dcterms:modified xsi:type="dcterms:W3CDTF">2004-12-17T20:53:12Z</dcterms:modified>
  <cp:revision>24</cp:revision>
  <dc:subject/>
  <dc:title>PowerPoint Presentation</dc:title>
</cp:coreProperties>
</file>