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237-D2A5-4A53-BDBB-2A3867B8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CCBD-32D1-4A3E-A614-2F2A4426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6F8-4F98-48E5-A0C8-433810E8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FCB-B7A5-4359-B78A-88E79C1B5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6E1-9075-478E-9C15-6B4DD13C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C0C-627A-44F2-92CF-C5F7E6BA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1626-E02F-467A-8B3C-514F42B0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73E-FFBA-412D-A994-05D2A6C9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4E6-51BC-49EF-A79E-8CB2C364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9DB-5479-4653-8526-50506AB89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4BE-2B1A-4B00-8947-8515FFC4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28F-804F-4390-ABFB-ED56BD43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B1DA-272B-4010-8233-C05F845D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76B-FEF1-4042-A024-5BD30939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265-57FB-4B64-A371-1066F91A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1BDB-9DF9-4E04-B940-51D432E5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02A-15B4-45D0-BF9D-F31ACB60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0CE-9FED-43EA-9E4D-12EC8AF1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8E81-184C-46A3-A1E3-D15FF3D5B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5C5C-1795-4981-8E40-1CBE3B98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C33C-DA17-4A26-893C-1D51399D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67F-8FF3-4EF7-94D9-D312D7BA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DCCB-324F-4DDD-90BD-51836CF6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2CF-EA1D-437E-83E1-9DF677CE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45C8-4A69-4E8C-B232-99028203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0ED-7E25-4B2E-A40D-5693E055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AAE-E50D-4681-8080-F93C6B15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048-FE31-42BB-A961-A2D208DF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559F-3F14-4735-8730-8C8F7FEA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3BBD-7449-4C38-AA82-F3FB1873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920-1B28-4C75-948C-1070D1B8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AA6-1E79-4428-B7D6-4A5A9333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AA2-8AD8-4098-A647-9F0D80DB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0EE3-EFA7-41CE-AE53-E45162CC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A23D-B57B-480F-B110-7EE3B90E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940-4B3D-4EE2-807D-1931136E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AC3-B5AA-458A-A283-F66481BE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7117-3922-4CA7-826B-5E1B0543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57B2-16F7-4658-815E-73ECC8E8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E7C-FDE5-48BF-ABCC-ACC6CE51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09B-C557-4682-A3BF-CEB6DB4E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F749-4DE5-40DA-82C0-745FD207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963-69E1-4A36-A975-816CDCAE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1CC-D3D4-4F5E-BF39-7543E618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5C4-A7BA-4E1C-96D6-6E5B744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B35-3CD4-4F14-AD5F-AA5B1468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3E7-A0D0-499E-8985-9FA982FE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AE3-86C2-44C6-89AF-4CCF869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28F-09DC-4AB0-B053-9CA9685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028-7C1D-462A-AA7A-3A71D81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2A8-F740-4B1F-8A31-86127AB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19E-615D-4068-B154-3F1B2DC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E7-E307-444B-9ED3-F6BAE1D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6DD-C7F1-4C07-8347-04D452D1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2E5-E820-4F3B-B29C-D8CF33F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5CD-73F7-402D-ABF9-F66CC94A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Matter and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12" descr="Uniform"/>
          <p:cNvPicPr/>
          <p:nvPr/>
        </p:nvPicPr>
        <p:blipFill>
          <a:blip r:embed="rId1"/>
          <a:srcRect l="9252" t="0" r="15578" b="0"/>
          <a:stretch/>
        </p:blipFill>
        <p:spPr>
          <a:xfrm>
            <a:off x="4114800" y="1365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7" descr="Heterogeneous"/>
          <p:cNvPicPr/>
          <p:nvPr/>
        </p:nvPicPr>
        <p:blipFill>
          <a:blip r:embed="rId1"/>
          <a:stretch/>
        </p:blipFill>
        <p:spPr>
          <a:xfrm>
            <a:off x="2897280" y="1359000"/>
            <a:ext cx="226692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6" descr="Homogeneous"/>
          <p:cNvPicPr/>
          <p:nvPr/>
        </p:nvPicPr>
        <p:blipFill>
          <a:blip r:embed="rId1"/>
          <a:stretch/>
        </p:blipFill>
        <p:spPr>
          <a:xfrm>
            <a:off x="2887560" y="1352520"/>
            <a:ext cx="3436920" cy="16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3" name="Picture 10" descr="Variable"/>
          <p:cNvPicPr/>
          <p:nvPr/>
        </p:nvPicPr>
        <p:blipFill>
          <a:blip r:embed="rId1"/>
          <a:stretch/>
        </p:blipFill>
        <p:spPr>
          <a:xfrm>
            <a:off x="2881440" y="1343160"/>
            <a:ext cx="343692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9" descr="Solution"/>
          <p:cNvPicPr/>
          <p:nvPr/>
        </p:nvPicPr>
        <p:blipFill>
          <a:blip r:embed="rId1"/>
          <a:stretch/>
        </p:blipFill>
        <p:spPr>
          <a:xfrm>
            <a:off x="2901960" y="1355760"/>
            <a:ext cx="457992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6" descr="Substance"/>
          <p:cNvPicPr/>
          <p:nvPr/>
        </p:nvPicPr>
        <p:blipFill>
          <a:blip r:embed="rId1"/>
          <a:stretch/>
        </p:blipFill>
        <p:spPr>
          <a:xfrm>
            <a:off x="2906640" y="1349280"/>
            <a:ext cx="4570560" cy="30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10" descr="Separated"/>
          <p:cNvPicPr/>
          <p:nvPr/>
        </p:nvPicPr>
        <p:blipFill>
          <a:blip r:embed="rId1"/>
          <a:stretch/>
        </p:blipFill>
        <p:spPr>
          <a:xfrm>
            <a:off x="2894040" y="1349280"/>
            <a:ext cx="4589280" cy="36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1" name="Picture 7" descr="Element"/>
          <p:cNvPicPr/>
          <p:nvPr/>
        </p:nvPicPr>
        <p:blipFill>
          <a:blip r:embed="rId1"/>
          <a:stretch/>
        </p:blipFill>
        <p:spPr>
          <a:xfrm>
            <a:off x="2878200" y="133524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8" descr="Compound"/>
          <p:cNvPicPr/>
          <p:nvPr/>
        </p:nvPicPr>
        <p:blipFill>
          <a:blip r:embed="rId1"/>
          <a:stretch/>
        </p:blipFill>
        <p:spPr>
          <a:xfrm>
            <a:off x="2879640" y="133668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ixtures and 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5" name="Picture 6" descr="13_07"/>
          <p:cNvPicPr/>
          <p:nvPr/>
        </p:nvPicPr>
        <p:blipFill>
          <a:blip r:embed="rId1"/>
          <a:srcRect l="0" t="0" r="0" b="14738"/>
          <a:stretch/>
        </p:blipFill>
        <p:spPr>
          <a:xfrm>
            <a:off x="685800" y="2309760"/>
            <a:ext cx="77724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tudy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7" descr="01_04"/>
          <p:cNvPicPr/>
          <p:nvPr/>
        </p:nvPicPr>
        <p:blipFill>
          <a:blip r:embed="rId1"/>
          <a:srcRect l="0" t="0" r="0" b="2901"/>
          <a:stretch/>
        </p:blipFill>
        <p:spPr>
          <a:xfrm>
            <a:off x="685800" y="2338560"/>
            <a:ext cx="3809880" cy="3300120"/>
          </a:xfrm>
          <a:prstGeom prst="rect">
            <a:avLst/>
          </a:prstGeom>
          <a:ln w="0">
            <a:noFill/>
          </a:ln>
        </p:spPr>
      </p:pic>
      <p:sp>
        <p:nvSpPr>
          <p:cNvPr id="55" name="Freeform 6"/>
          <p:cNvSpPr/>
          <p:nvPr/>
        </p:nvSpPr>
        <p:spPr>
          <a:xfrm>
            <a:off x="5129280" y="2589120"/>
            <a:ext cx="28260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5502240" y="2625840"/>
            <a:ext cx="155520" cy="19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5749920" y="2452680"/>
            <a:ext cx="3636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867280" y="2389320"/>
            <a:ext cx="55800" cy="455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5676840" y="2571840"/>
            <a:ext cx="27324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5950080" y="2617920"/>
            <a:ext cx="11880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6159600" y="2544840"/>
            <a:ext cx="20160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5640480" y="3046320"/>
            <a:ext cx="1537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5813280" y="2954160"/>
            <a:ext cx="182880" cy="301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6013440" y="3100320"/>
            <a:ext cx="146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6259680" y="3046320"/>
            <a:ext cx="1555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6470640" y="3063960"/>
            <a:ext cx="136440" cy="37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6707160" y="3009960"/>
            <a:ext cx="11916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6908760" y="2982960"/>
            <a:ext cx="17316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525920" y="2754360"/>
            <a:ext cx="32868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954680" y="2817720"/>
            <a:ext cx="9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927680" y="263520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173560" y="2535120"/>
            <a:ext cx="1908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64120" y="2690640"/>
            <a:ext cx="264960" cy="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5365800" y="2508120"/>
            <a:ext cx="255600" cy="455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5713560" y="2744640"/>
            <a:ext cx="190440" cy="238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5959440" y="2754360"/>
            <a:ext cx="2732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6361200" y="2352600"/>
            <a:ext cx="17280" cy="528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6178680" y="2517840"/>
            <a:ext cx="5014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5"/>
          <p:cNvSpPr/>
          <p:nvPr/>
        </p:nvSpPr>
        <p:spPr>
          <a:xfrm>
            <a:off x="1797120" y="5189400"/>
            <a:ext cx="20160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>
            <a:off x="2062080" y="4933800"/>
            <a:ext cx="182520" cy="446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235240" y="5133960"/>
            <a:ext cx="146160" cy="264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2473200" y="5133960"/>
            <a:ext cx="14616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2692440" y="5116680"/>
            <a:ext cx="155520" cy="582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0"/>
          <p:cNvSpPr/>
          <p:nvPr/>
        </p:nvSpPr>
        <p:spPr>
          <a:xfrm>
            <a:off x="2938320" y="5106960"/>
            <a:ext cx="12708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1"/>
          <p:cNvSpPr/>
          <p:nvPr/>
        </p:nvSpPr>
        <p:spPr>
          <a:xfrm>
            <a:off x="3147840" y="4897440"/>
            <a:ext cx="2019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2938320" y="5180040"/>
            <a:ext cx="92160" cy="63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ent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324080" y="2006640"/>
            <a:ext cx="7920" cy="4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278000" y="1878120"/>
            <a:ext cx="328680" cy="274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670040" y="2097000"/>
            <a:ext cx="173160" cy="265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1879560" y="2170080"/>
            <a:ext cx="228600" cy="574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2198520" y="2106720"/>
            <a:ext cx="128880" cy="291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2436840" y="2197080"/>
            <a:ext cx="93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421000" y="2027160"/>
            <a:ext cx="50760" cy="5076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556000" y="2143080"/>
            <a:ext cx="20952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2765520" y="2152800"/>
            <a:ext cx="218880" cy="218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3075120" y="1797120"/>
            <a:ext cx="109440" cy="601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1724040" y="1787400"/>
            <a:ext cx="1015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1533600" y="3840120"/>
            <a:ext cx="511200" cy="655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098800" y="4122720"/>
            <a:ext cx="201600" cy="29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336760" y="4149720"/>
            <a:ext cx="23652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2692440" y="4213080"/>
            <a:ext cx="936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2673360" y="4057560"/>
            <a:ext cx="19080" cy="9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01880" y="4203720"/>
            <a:ext cx="127080" cy="237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957400" y="4213080"/>
            <a:ext cx="173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3257640" y="3957480"/>
            <a:ext cx="27000" cy="501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2135160" y="4222800"/>
            <a:ext cx="921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in matter that do not chang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that result in new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743120" y="3236760"/>
            <a:ext cx="19188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979640" y="3046320"/>
            <a:ext cx="17460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208240" y="3219480"/>
            <a:ext cx="8244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2381400" y="3246480"/>
            <a:ext cx="2016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2673360" y="3255840"/>
            <a:ext cx="936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746440" y="3246480"/>
            <a:ext cx="9216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2938320" y="3054240"/>
            <a:ext cx="367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2921040" y="3182760"/>
            <a:ext cx="26352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3130560" y="3200400"/>
            <a:ext cx="22716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2774880" y="3083040"/>
            <a:ext cx="1764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6086520" y="4751280"/>
            <a:ext cx="15552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6369120" y="4741920"/>
            <a:ext cx="137880" cy="201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6588000" y="4732200"/>
            <a:ext cx="92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6762600" y="4687920"/>
            <a:ext cx="227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81920" y="4714920"/>
            <a:ext cx="9360" cy="127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7081920" y="456876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7209000" y="4697280"/>
            <a:ext cx="10944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7383600" y="4651200"/>
            <a:ext cx="1904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7683480" y="4359240"/>
            <a:ext cx="1908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6378480" y="4559400"/>
            <a:ext cx="367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6680160" y="1604880"/>
            <a:ext cx="23652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6989760" y="1731960"/>
            <a:ext cx="109440" cy="155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7155000" y="1468440"/>
            <a:ext cx="22860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7456320" y="1276200"/>
            <a:ext cx="136800" cy="319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7666200" y="1049400"/>
            <a:ext cx="1537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7812000" y="839880"/>
            <a:ext cx="200160" cy="226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8058240" y="730080"/>
            <a:ext cx="109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7985160" y="547560"/>
            <a:ext cx="9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8012160" y="272880"/>
            <a:ext cx="264960" cy="447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8177040" y="474840"/>
            <a:ext cx="90720" cy="8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8331120" y="411120"/>
            <a:ext cx="10152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8286840" y="246240"/>
            <a:ext cx="27000" cy="18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8450280" y="27000"/>
            <a:ext cx="384120" cy="384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"/>
          <p:cNvSpPr/>
          <p:nvPr/>
        </p:nvSpPr>
        <p:spPr>
          <a:xfrm>
            <a:off x="8112240" y="482760"/>
            <a:ext cx="9180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course of a chemical reaction, the reacting substances a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7" descr="01_10"/>
          <p:cNvPicPr/>
          <p:nvPr/>
        </p:nvPicPr>
        <p:blipFill>
          <a:blip r:embed="rId1"/>
          <a:srcRect l="0" t="16438" r="0" b="4799"/>
          <a:stretch/>
        </p:blipFill>
        <p:spPr>
          <a:xfrm>
            <a:off x="1828800" y="1449360"/>
            <a:ext cx="5484960" cy="33336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6"/>
          <p:cNvSpPr/>
          <p:nvPr/>
        </p:nvSpPr>
        <p:spPr>
          <a:xfrm>
            <a:off x="5156280" y="5708520"/>
            <a:ext cx="1458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5356080" y="5735520"/>
            <a:ext cx="1382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548320" y="5735520"/>
            <a:ext cx="2095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5830920" y="5599080"/>
            <a:ext cx="15552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6113520" y="5781600"/>
            <a:ext cx="360" cy="128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6113520" y="5608800"/>
            <a:ext cx="936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6242040" y="5745240"/>
            <a:ext cx="13644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6424560" y="5718240"/>
            <a:ext cx="136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6661080" y="5452920"/>
            <a:ext cx="21132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6945480" y="5900760"/>
            <a:ext cx="79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Sodium and Potassium in Water"/>
          <p:cNvPicPr/>
          <p:nvPr/>
        </p:nvPicPr>
        <p:blipFill>
          <a:blip r:embed="rId1"/>
          <a:stretch/>
        </p:blipFill>
        <p:spPr>
          <a:xfrm>
            <a:off x="2144880" y="1981080"/>
            <a:ext cx="485424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ounds can be broken down into mo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7" descr="01_07"/>
          <p:cNvPicPr/>
          <p:nvPr/>
        </p:nvPicPr>
        <p:blipFill>
          <a:blip r:embed="rId1"/>
          <a:srcRect l="0" t="0" r="0" b="4809"/>
          <a:stretch/>
        </p:blipFill>
        <p:spPr>
          <a:xfrm>
            <a:off x="4114800" y="2438280"/>
            <a:ext cx="4343400" cy="28274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6"/>
          <p:cNvSpPr/>
          <p:nvPr/>
        </p:nvSpPr>
        <p:spPr>
          <a:xfrm>
            <a:off x="1569960" y="3411360"/>
            <a:ext cx="182520" cy="209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2044800" y="3492360"/>
            <a:ext cx="36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1889280" y="3475080"/>
            <a:ext cx="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1889280" y="3328920"/>
            <a:ext cx="1728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2071800" y="3446640"/>
            <a:ext cx="218880" cy="17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1"/>
          <p:cNvSpPr/>
          <p:nvPr/>
        </p:nvSpPr>
        <p:spPr>
          <a:xfrm>
            <a:off x="2417760" y="3429000"/>
            <a:ext cx="15552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2"/>
          <p:cNvSpPr/>
          <p:nvPr/>
        </p:nvSpPr>
        <p:spPr>
          <a:xfrm>
            <a:off x="2665440" y="3301920"/>
            <a:ext cx="17280" cy="327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2774880" y="3375000"/>
            <a:ext cx="24624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3303720" y="3090960"/>
            <a:ext cx="6336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3321000" y="3090960"/>
            <a:ext cx="119160" cy="62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3576600" y="3236760"/>
            <a:ext cx="19080" cy="347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3722760" y="3328920"/>
            <a:ext cx="17460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960720" y="3083040"/>
            <a:ext cx="146160" cy="473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4197240" y="3328920"/>
            <a:ext cx="1908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4164120" y="3166920"/>
            <a:ext cx="50760" cy="511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4307040" y="3236760"/>
            <a:ext cx="1555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4535640" y="3309840"/>
            <a:ext cx="1872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3"/>
          <p:cNvSpPr/>
          <p:nvPr/>
        </p:nvSpPr>
        <p:spPr>
          <a:xfrm>
            <a:off x="4554360" y="3119400"/>
            <a:ext cx="82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4645080" y="2990880"/>
            <a:ext cx="16344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4873680" y="3273480"/>
            <a:ext cx="182520" cy="164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5064120" y="3228840"/>
            <a:ext cx="237960" cy="21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7"/>
          <p:cNvSpPr/>
          <p:nvPr/>
        </p:nvSpPr>
        <p:spPr>
          <a:xfrm>
            <a:off x="5329080" y="2963880"/>
            <a:ext cx="6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8"/>
          <p:cNvSpPr/>
          <p:nvPr/>
        </p:nvSpPr>
        <p:spPr>
          <a:xfrm>
            <a:off x="5438880" y="2727360"/>
            <a:ext cx="282600" cy="84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lysis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Electrolysis of Water"/>
          <p:cNvPicPr/>
          <p:nvPr/>
        </p:nvPicPr>
        <p:blipFill>
          <a:blip r:embed="rId1"/>
          <a:stretch/>
        </p:blipFill>
        <p:spPr>
          <a:xfrm>
            <a:off x="2117880" y="1981080"/>
            <a:ext cx="49082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Separation of Mixture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01_13"/>
          <p:cNvPicPr/>
          <p:nvPr/>
        </p:nvPicPr>
        <p:blipFill>
          <a:blip r:embed="rId1"/>
          <a:srcRect l="0" t="0" r="0" b="4450"/>
          <a:stretch/>
        </p:blipFill>
        <p:spPr>
          <a:xfrm>
            <a:off x="380880" y="1828800"/>
            <a:ext cx="4442040" cy="3595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ixture on the basis of differences in boiling poi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cientific Method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ystematic approach to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6" descr="01_15"/>
          <p:cNvPicPr/>
          <p:nvPr/>
        </p:nvPicPr>
        <p:blipFill>
          <a:blip r:embed="rId1"/>
          <a:srcRect l="0" t="0" r="0" b="13841"/>
          <a:stretch/>
        </p:blipFill>
        <p:spPr>
          <a:xfrm>
            <a:off x="228600" y="3962520"/>
            <a:ext cx="8763120" cy="1569960"/>
          </a:xfrm>
          <a:prstGeom prst="rect">
            <a:avLst/>
          </a:prstGeom>
          <a:ln w="0">
            <a:noFill/>
          </a:ln>
        </p:spPr>
      </p:pic>
      <p:sp>
        <p:nvSpPr>
          <p:cNvPr id="72" name="Freeform 6"/>
          <p:cNvSpPr/>
          <p:nvPr/>
        </p:nvSpPr>
        <p:spPr>
          <a:xfrm>
            <a:off x="5465880" y="2052720"/>
            <a:ext cx="29196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5813280" y="2143080"/>
            <a:ext cx="136800" cy="16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5749920" y="2133720"/>
            <a:ext cx="15408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6149880" y="1714680"/>
            <a:ext cx="97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6086520" y="2125800"/>
            <a:ext cx="27000" cy="15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"/>
          <p:cNvSpPr/>
          <p:nvPr/>
        </p:nvSpPr>
        <p:spPr>
          <a:xfrm>
            <a:off x="6259680" y="2079720"/>
            <a:ext cx="15552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>
            <a:off x="6515280" y="2197080"/>
            <a:ext cx="936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6661080" y="2070000"/>
            <a:ext cx="2844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"/>
          <p:cNvSpPr/>
          <p:nvPr/>
        </p:nvSpPr>
        <p:spPr>
          <a:xfrm>
            <a:off x="6945480" y="2023920"/>
            <a:ext cx="282240" cy="684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5"/>
          <p:cNvSpPr/>
          <p:nvPr/>
        </p:nvSpPr>
        <p:spPr>
          <a:xfrm>
            <a:off x="6561000" y="1906560"/>
            <a:ext cx="36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6"/>
          <p:cNvSpPr/>
          <p:nvPr/>
        </p:nvSpPr>
        <p:spPr>
          <a:xfrm>
            <a:off x="6059520" y="1741320"/>
            <a:ext cx="7308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7"/>
          <p:cNvSpPr/>
          <p:nvPr/>
        </p:nvSpPr>
        <p:spPr>
          <a:xfrm>
            <a:off x="6178680" y="2089080"/>
            <a:ext cx="810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6" descr="01_13"/>
          <p:cNvPicPr/>
          <p:nvPr/>
        </p:nvPicPr>
        <p:blipFill>
          <a:blip r:embed="rId1"/>
          <a:srcRect l="0" t="0" r="0" b="3398"/>
          <a:stretch/>
        </p:blipFill>
        <p:spPr>
          <a:xfrm>
            <a:off x="1871640" y="1295280"/>
            <a:ext cx="54021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01_12"/>
          <p:cNvPicPr/>
          <p:nvPr/>
        </p:nvPicPr>
        <p:blipFill>
          <a:blip r:embed="rId1"/>
          <a:srcRect l="0" t="0" r="0" b="9369"/>
          <a:stretch/>
        </p:blipFill>
        <p:spPr>
          <a:xfrm>
            <a:off x="533520" y="1828800"/>
            <a:ext cx="4324320" cy="3733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ltr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olid substances from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romatograph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ubstances on the basis of differences in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a solv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1" name="Picture 7" descr="01_14"/>
          <p:cNvPicPr/>
          <p:nvPr/>
        </p:nvPicPr>
        <p:blipFill>
          <a:blip r:embed="rId1"/>
          <a:srcRect l="0" t="0" r="0" b="11531"/>
          <a:stretch/>
        </p:blipFill>
        <p:spPr>
          <a:xfrm>
            <a:off x="990720" y="2971800"/>
            <a:ext cx="708660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Système International d’Unité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Uses a different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unit for each quant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1424160" y="1523880"/>
            <a:ext cx="62974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vert the base units into units that are appropriate for the item being measu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9" name="Picture 7" descr="01_T05"/>
          <p:cNvPicPr/>
          <p:nvPr/>
        </p:nvPicPr>
        <p:blipFill>
          <a:blip r:embed="rId1"/>
          <a:srcRect l="0" t="11134" r="0" b="4946"/>
          <a:stretch/>
        </p:blipFill>
        <p:spPr>
          <a:xfrm>
            <a:off x="1359000" y="3124080"/>
            <a:ext cx="6426000" cy="274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2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6"/>
          <p:cNvSpPr/>
          <p:nvPr/>
        </p:nvSpPr>
        <p:spPr>
          <a:xfrm>
            <a:off x="3386160" y="2890800"/>
            <a:ext cx="73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576600" y="3083040"/>
            <a:ext cx="1908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3549600" y="3009960"/>
            <a:ext cx="190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3705120" y="2946240"/>
            <a:ext cx="4608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3649680" y="3036960"/>
            <a:ext cx="18252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3832200" y="3073320"/>
            <a:ext cx="1555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4070520" y="2954160"/>
            <a:ext cx="23652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certainty in Measur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measuring devices have different uses and different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ccura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2" name="Picture 9" descr="01_20"/>
          <p:cNvPicPr/>
          <p:nvPr/>
        </p:nvPicPr>
        <p:blipFill>
          <a:blip r:embed="rId1"/>
          <a:srcRect l="0" t="0" r="0" b="4040"/>
          <a:stretch/>
        </p:blipFill>
        <p:spPr>
          <a:xfrm>
            <a:off x="1555920" y="2666880"/>
            <a:ext cx="6032160" cy="35053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4662360" y="1751040"/>
            <a:ext cx="9216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/>
          <p:cNvSpPr/>
          <p:nvPr/>
        </p:nvSpPr>
        <p:spPr>
          <a:xfrm>
            <a:off x="4863960" y="1906560"/>
            <a:ext cx="11916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5092560" y="1897200"/>
            <a:ext cx="200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/>
          <p:cNvSpPr/>
          <p:nvPr/>
        </p:nvSpPr>
        <p:spPr>
          <a:xfrm>
            <a:off x="5338800" y="1887480"/>
            <a:ext cx="173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/>
          <p:cNvSpPr/>
          <p:nvPr/>
        </p:nvSpPr>
        <p:spPr>
          <a:xfrm>
            <a:off x="5611680" y="1704960"/>
            <a:ext cx="4608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5749920" y="1824120"/>
            <a:ext cx="1634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4518000" y="2170080"/>
            <a:ext cx="181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4827600" y="2306520"/>
            <a:ext cx="19224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5037120" y="2298600"/>
            <a:ext cx="192240" cy="465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5302080" y="2316240"/>
            <a:ext cx="907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5475240" y="2298600"/>
            <a:ext cx="136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5667480" y="2270160"/>
            <a:ext cx="13644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5859360" y="2252520"/>
            <a:ext cx="24624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scientific measurements, the Celsius an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cales are most often us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lsius scale is based on the properties of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freez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boil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10" descr="celsius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has mass and takes up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9" descr="13_07"/>
          <p:cNvPicPr/>
          <p:nvPr/>
        </p:nvPicPr>
        <p:blipFill>
          <a:blip r:embed="rId1"/>
          <a:srcRect l="0" t="0" r="0" b="14040"/>
          <a:stretch/>
        </p:blipFill>
        <p:spPr>
          <a:xfrm>
            <a:off x="2819520" y="3191040"/>
            <a:ext cx="5638680" cy="215712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"/>
          <p:cNvSpPr/>
          <p:nvPr/>
        </p:nvSpPr>
        <p:spPr>
          <a:xfrm>
            <a:off x="1068480" y="3046320"/>
            <a:ext cx="190440" cy="292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1424160" y="3083040"/>
            <a:ext cx="20952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1716120" y="3110040"/>
            <a:ext cx="163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98720" y="3073320"/>
            <a:ext cx="209520" cy="200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00400" y="3036960"/>
            <a:ext cx="32868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Kelvin is the SI unit of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based on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g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no negative Kelvin tempera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3" name="Picture 9" descr="kelvin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ahrenheit scale is not used in scientific measur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= 9/5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) + 3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= 5/9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2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6" name="Picture 7" descr="fahrenheit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y of a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587760" y="2819520"/>
            <a:ext cx="1969560" cy="1922760"/>
            <a:chOff x="3587760" y="2819520"/>
            <a:chExt cx="1969560" cy="1922760"/>
          </a:xfrm>
        </p:grpSpPr>
        <p:sp>
          <p:nvSpPr>
            <p:cNvPr id="320" name="Rectangle 6"/>
            <p:cNvSpPr/>
            <p:nvPr/>
          </p:nvSpPr>
          <p:spPr>
            <a:xfrm>
              <a:off x="3587760" y="3276720"/>
              <a:ext cx="1049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9"/>
            <p:cNvGrpSpPr/>
            <p:nvPr/>
          </p:nvGrpSpPr>
          <p:grpSpPr>
            <a:xfrm>
              <a:off x="4719600" y="2819520"/>
              <a:ext cx="837720" cy="1922760"/>
              <a:chOff x="4719600" y="2819520"/>
              <a:chExt cx="837720" cy="1922760"/>
            </a:xfrm>
          </p:grpSpPr>
          <p:sp>
            <p:nvSpPr>
              <p:cNvPr id="322" name="Rectangle 7"/>
              <p:cNvSpPr/>
              <p:nvPr/>
            </p:nvSpPr>
            <p:spPr>
              <a:xfrm>
                <a:off x="4730040" y="281952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8"/>
              <p:cNvSpPr/>
              <p:nvPr/>
            </p:nvSpPr>
            <p:spPr>
              <a:xfrm>
                <a:off x="4719600" y="3771720"/>
                <a:ext cx="83772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4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  <p:sp>
        <p:nvSpPr>
          <p:cNvPr id="96" name="Freeform 7"/>
          <p:cNvSpPr/>
          <p:nvPr/>
        </p:nvSpPr>
        <p:spPr>
          <a:xfrm>
            <a:off x="1514520" y="4960800"/>
            <a:ext cx="3747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1971720" y="5180040"/>
            <a:ext cx="146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2281320" y="4951440"/>
            <a:ext cx="1908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2171880" y="5052960"/>
            <a:ext cx="2458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2490840" y="4878360"/>
            <a:ext cx="55440" cy="493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2454120" y="5116680"/>
            <a:ext cx="16524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2682720" y="5126040"/>
            <a:ext cx="209880" cy="326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4"/>
          <p:cNvSpPr/>
          <p:nvPr/>
        </p:nvSpPr>
        <p:spPr>
          <a:xfrm>
            <a:off x="2938320" y="5079960"/>
            <a:ext cx="27324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3" name="Picture 6" descr="11_01"/>
          <p:cNvPicPr/>
          <p:nvPr/>
        </p:nvPicPr>
        <p:blipFill>
          <a:blip r:embed="rId1"/>
          <a:srcRect l="0" t="0" r="0" b="38888"/>
          <a:stretch/>
        </p:blipFill>
        <p:spPr>
          <a:xfrm>
            <a:off x="457200" y="1865160"/>
            <a:ext cx="8153280" cy="272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5" name="Picture 14" descr="Matter"/>
          <p:cNvPicPr/>
          <p:nvPr/>
        </p:nvPicPr>
        <p:blipFill>
          <a:blip r:embed="rId1"/>
          <a:stretch/>
        </p:blipFill>
        <p:spPr>
          <a:xfrm>
            <a:off x="4095720" y="1359000"/>
            <a:ext cx="95112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iLLuSioN</cp:lastModifiedBy>
  <dcterms:modified xsi:type="dcterms:W3CDTF">2008-11-17T07:43:04Z</dcterms:modified>
  <cp:revision>74</cp:revision>
  <dc:subject/>
  <dc:title>Chapter 1 Introduction: Matter and Measurement</dc:title>
</cp:coreProperties>
</file>