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54D44-C7C4-44BF-BB67-A8376120A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3F926-98C0-41E0-A5C9-10A93844E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204D2-82C9-41C7-A421-E8B06C7DE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8F864-CA83-4A0E-B1CF-9EAB31362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5736A-5F3D-42C1-A481-594C5B006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FB07A-435D-4197-826E-0B15DAA80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81305-ED96-44D7-866C-9DE931C2B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AF624-400A-4C55-8FB9-95C0BEAE8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CE7F9-71B2-4BCB-BE1C-B09FE9D57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36CA6-C860-4DB4-8148-9819D23F4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F5AC9-1AB0-4D68-AD39-31DE0CBAB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F58A1-360B-445F-840B-3B909D507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0CFF2-5C04-45ED-B16F-E44097A47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002AB-CD7F-4956-925B-A466369BD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9294D-7E6C-42A2-854A-C1EE5720C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FCBFC-A8AB-46FA-B13D-8F1774DFA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72C5F-A955-48DB-B60F-76B6C7BEF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5CD4E-2555-4FE1-87A8-4B7ADADD7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CB557-2B59-43D8-8968-1BE250E9B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562CE-7CCA-4319-BEA6-40317F0CF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BD477-2DF5-4B39-A290-03BF80EA5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2DE44-6C95-4C0C-AA11-541AA79DF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4C3F6-03A9-402F-8F91-78009615D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AE4DC-4DF0-4A67-95C7-73E1EAE07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A4956-870C-4670-B1F7-924D2DA4823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E9FD3-8DF5-49DB-83B0-3BB746C8847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99"/>
                </a:solidFill>
                <a:latin typeface="Arial"/>
              </a:rPr>
              <a:t>How Cells Divid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295280" y="121896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hapter 1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rcRect l="27503" t="3331" r="27503" b="3331"/>
          <a:stretch/>
        </p:blipFill>
        <p:spPr>
          <a:xfrm>
            <a:off x="3124080" y="2209680"/>
            <a:ext cx="2772000" cy="431352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f an organism is larger than another organism, does it mean that the larger organism has larger cells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403280" y="4581360"/>
            <a:ext cx="58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ets Find ou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et’s move to the lab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 are several prepared slides with different types of cell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are the size of the cells with the size of the organism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raw each of the cells and relative size and answer the question given at the beginning of the cla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Your results should look like this in your lab notebook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457200" y="1600200"/>
          <a:ext cx="8147160" cy="3724200"/>
        </p:xfrm>
        <a:graphic>
          <a:graphicData uri="http://schemas.openxmlformats.org/drawingml/2006/table">
            <a:tbl>
              <a:tblPr/>
              <a:tblGrid>
                <a:gridCol w="4073400"/>
                <a:gridCol w="4073760"/>
              </a:tblGrid>
              <a:tr h="11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Drawing one (Cell type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Drawing two (Cell type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6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Drawing three (Cell type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Drawing four (Cell type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nswer to the question here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4067280" y="5589720"/>
            <a:ext cx="228600" cy="22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o… why are all cells very close to the same size?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9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NA “Overload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NA information is not enough for the cel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nk of a small town vs. a large tow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changing materia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change is dependent on surface are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od and oxygen use and waste production is dependent on volu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… there is a relationship between volume and surface are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atio of Surface area to Volum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 x 1 x 6 = 6 cm sq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 x 1 x 1 = 1 cm cub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6:1 Rati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w what happens if the size of the cell doubles?  Figure it ou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ivision of the cel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n a cell gets too big it divides… This is called cell divis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2"/>
          <a:srcRect l="27503" t="3331" r="27503" b="3331"/>
          <a:stretch/>
        </p:blipFill>
        <p:spPr>
          <a:xfrm>
            <a:off x="4716360" y="1484280"/>
            <a:ext cx="4038840" cy="51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eview and understand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lease do the assessment questions on page 243 now.  If you finish you don’t have homework.  If you don’t these questions will be checked next class we have togeth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4T02:13:50Z</dcterms:created>
  <dc:creator>IBM</dc:creator>
  <dc:description/>
  <dc:language>en-US</dc:language>
  <cp:lastModifiedBy>IBM</cp:lastModifiedBy>
  <dcterms:modified xsi:type="dcterms:W3CDTF">2007-11-16T02:31:22Z</dcterms:modified>
  <cp:revision>3</cp:revision>
  <dc:subject/>
  <dc:title>How Cells Divide</dc:title>
</cp:coreProperties>
</file>