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45C-EB6D-4CE7-BAC6-D780E72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71C-2A5F-4755-85AD-55E4500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E64-EF90-4D54-A765-54BF7E22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804-576E-4299-A07F-B8C62F90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96B4-178D-4C2B-B0DF-0D6E1E71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77B8-E3A3-49E3-88D7-AEC2A2D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A695-E033-448D-80AD-5BB70686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884-7F58-4EB4-A00C-3DB3C396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BDB8-29AE-4279-997E-E55CF99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1DED-A0B7-4FB4-8C99-044108B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CDDE-5375-4849-8227-8169853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6AF-0FD3-4C29-9EEB-CE633A43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E7DF-CEA4-4BC9-AE0F-D917465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9FAA-E0C4-467D-98C9-FB86A58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930-6895-44C8-8B01-CF0AE4C1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1CE0-4D04-4C55-B3F1-E4734BCD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BD6-3E2E-41CE-967D-26C2848D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B33-A514-4B07-B7BD-76930E7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451-47C1-4DBD-968A-DA996E88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210-C6FF-4779-A8E1-9715BA1B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A68-A6B7-4BDE-8D66-21A5F3C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1EB-570E-49F7-8AF0-6646F06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FBC-4818-4614-BAA9-1E3ECAF7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BA9-1A73-4763-8190-39EC565D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9A5-2B39-44A1-A843-F6885B4B6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93C-D202-47B9-B491-10222F1AA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Cells Div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503" t="3331" r="27503" b="3331"/>
          <a:stretch/>
        </p:blipFill>
        <p:spPr>
          <a:xfrm>
            <a:off x="3124080" y="2209680"/>
            <a:ext cx="2772000" cy="4313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an organism is larger than another organism, does it mean that the larger organism has larger cel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581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s Fin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move to the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prepared slides with different type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size of the cells with the size of 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each of the cells and relative size and answer the question given at the beginning of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results should look like this in your lab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147160" cy="37242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on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wo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hre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four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to the question her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67280" y="55897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… why are all cells very close to the same siz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“Overlo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nformation is not enough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 small town vs. a large 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s dependent on surfac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oxygen use and waste production is dependent on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… there is a relationship between volume and surface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6 = 6 cm s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 = 1 cm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1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at happens if the size of the cell doubles?  Figur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of th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ell gets too big it divides… This is called cell di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7503" t="3331" r="27503" b="3331"/>
          <a:stretch/>
        </p:blipFill>
        <p:spPr>
          <a:xfrm>
            <a:off x="4716360" y="1484280"/>
            <a:ext cx="4038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 and understa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o the assessment questions on page 243 now.  If you finish you don’t have homework.  If you don’t these questions will be checked next class we hav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2:13:50Z</dcterms:created>
  <dc:creator>IBM</dc:creator>
  <dc:description/>
  <dc:language>en-US</dc:language>
  <cp:lastModifiedBy>IBM</cp:lastModifiedBy>
  <dcterms:modified xsi:type="dcterms:W3CDTF">2007-11-16T02:31:22Z</dcterms:modified>
  <cp:revision>3</cp:revision>
  <dc:subject/>
  <dc:title>How Cells Divide</dc:title>
</cp:coreProperties>
</file>