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984-CA26-4293-AA45-4D38C5A8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37B2-7144-4C85-93B7-569E69AB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C25-D735-4823-848A-C2B494C7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2AD-4AE2-430C-B601-40F228F5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2676-F9FF-4B21-AD12-936E2D3F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3518-CC2F-49EC-B9D6-00358BFE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39D3-6E83-4829-89AF-3060B723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F8FB-3F35-45EE-A3F2-5262F982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8678-F58A-4567-ACFF-1FDF5E6F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653B-F548-4EC7-BC84-AD90440B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D4F3-C0EE-49B2-B3F7-50A0D43C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5BDA-91F8-4635-8144-9BEA4AE2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9A12-7EEA-43AC-B81D-107DAEEB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CD1F-1AED-48ED-B44B-525F2251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E866-B5A3-4771-8060-6C9D14D2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FDE2-8963-4052-9FA9-20A4823C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A868-9B9F-476E-B4F9-CD1A965B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4665-811F-4ABC-B14D-61183120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6E32-8DC7-4C0F-8B72-7F6D0F77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F6D6-6427-4317-B0EC-2493C5D3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63B0-30A9-418B-BF53-5B79D918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138-0AB9-46A3-B1F4-02487B3B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ADA-9C48-4C64-BFD8-9E00B5A6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D0EE-0DFC-44C5-A947-8B4976EC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9D62-725A-4F81-8037-3091C8645B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D72D-8D77-4F14-A38A-58B611DE12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How Cells Div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95280" y="1218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pter 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27503" t="3331" r="27503" b="3331"/>
          <a:stretch/>
        </p:blipFill>
        <p:spPr>
          <a:xfrm>
            <a:off x="3124080" y="2209680"/>
            <a:ext cx="2772000" cy="43135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f an organism is larger than another organism, does it mean that the larger organism has larger cell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03280" y="458136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ts Find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t’s move to the la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several prepared slides with different types of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the size of the cells with the size of the organis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each of the cells and relative size and answer the question given at the beginning of th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results should look like this in your lab noteboo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600200"/>
          <a:ext cx="8147160" cy="3724200"/>
        </p:xfrm>
        <a:graphic>
          <a:graphicData uri="http://schemas.openxmlformats.org/drawingml/2006/table">
            <a:tbl>
              <a:tblPr/>
              <a:tblGrid>
                <a:gridCol w="4073400"/>
                <a:gridCol w="4073760"/>
              </a:tblGrid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wing one (Cell typ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wing two (Cell typ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wing three (Cell typ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wing four (Cell typ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swer to the question her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067280" y="55897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… why are all cells very close to the same size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 “Overloa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NA information is not enough for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 of a small town vs. a large t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hanging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hange is dependent on surface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 and oxygen use and waste production is dependent on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… there is a relationship between volume and surface ar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tio of Surface area to Volu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x 1 x 6 = 6 cm sq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x 1 x 1 = 1 cm cu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:1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what happens if the size of the cell doubles?  Figure it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vision of the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cell gets too big it divides… This is called cell divi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rcRect l="27503" t="3331" r="27503" b="3331"/>
          <a:stretch/>
        </p:blipFill>
        <p:spPr>
          <a:xfrm>
            <a:off x="4716360" y="1484280"/>
            <a:ext cx="40388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 and understan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do the assessment questions on page 243 now.  If you finish you don’t have homework.  If you don’t these questions will be checked next class we have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02:13:50Z</dcterms:created>
  <dc:creator>IBM</dc:creator>
  <dc:description/>
  <dc:language>en-US</dc:language>
  <cp:lastModifiedBy>IBM</cp:lastModifiedBy>
  <dcterms:modified xsi:type="dcterms:W3CDTF">2007-11-16T02:31:22Z</dcterms:modified>
  <cp:revision>3</cp:revision>
  <dc:subject/>
  <dc:title>How Cells Divide</dc:title>
</cp:coreProperties>
</file>