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EB6-25CC-4685-893A-72736269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FB3-8797-4F0F-9E9B-88776855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D60-7657-498B-9789-5E9985C4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129-C8B9-455F-93F8-89FC67FB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3A0-BEA5-4388-936D-09CC0C74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025-8B6A-4672-AB34-1E02E4E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DF90-62E0-47C7-93DE-1F48E5CE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C0E-287D-4E02-B621-448BEA6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A7F-2772-4053-80AB-A90C07D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056-F969-46D6-A7F6-96599742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474-4CE6-4AA8-8769-1B28A2E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975-CFB2-4547-A951-C0065315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350-EC72-4D08-AF41-743E6D8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FCC5-D66A-45F8-B657-93C9FA1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3F1-1BD8-46C2-A729-CD79A8C9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BB45-5521-4721-AF4C-10EAC580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BB00-BE57-4FA6-92E5-1D1603C7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EDD-979B-4DFD-B095-61396D44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67C-393B-45C9-AADF-3C45BC0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7FB-89C3-49F9-BAA2-D87CDEF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176-7319-45F7-80B0-3378A2A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A6D-6CB3-4AA5-9D8D-9058493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84C-AAA8-44FF-80E6-7468F0A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D52-DCE2-4980-9729-FC4BFDD7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E32-BF90-4C09-9798-60ABABF898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5731-24A3-43F8-99E6-ED80218389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Cells Div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503" t="3331" r="27503" b="3331"/>
          <a:stretch/>
        </p:blipFill>
        <p:spPr>
          <a:xfrm>
            <a:off x="3124080" y="2209680"/>
            <a:ext cx="2772000" cy="4313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an organism is larger than another organism, does it mean that the larger organism has larger cel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581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s Fin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move to the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prepared slides with different type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size of the cells with the size of 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each of the cells and relative size and answer the question given at the beginning of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results should look like this in your lab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147160" cy="37242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on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wo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hre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four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to the question her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67280" y="55897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… why are all cells very close to the same siz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“Overlo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nformation is not enough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 small town vs. a large 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s dependent on surfac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oxygen use and waste production is dependent on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… there is a relationship between volume and surface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6 = 6 cm s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 = 1 cm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1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at happens if the size of the cell doubles?  Figur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of th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ell gets too big it divides… This is called cell di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7503" t="3331" r="27503" b="3331"/>
          <a:stretch/>
        </p:blipFill>
        <p:spPr>
          <a:xfrm>
            <a:off x="4716360" y="1484280"/>
            <a:ext cx="4038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 and understa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o the assessment questions on page 243 now.  If you finish you don’t have homework.  If you don’t these questions will be checked next class we hav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2:13:50Z</dcterms:created>
  <dc:creator>IBM</dc:creator>
  <dc:description/>
  <dc:language>en-US</dc:language>
  <cp:lastModifiedBy>IBM</cp:lastModifiedBy>
  <dcterms:modified xsi:type="dcterms:W3CDTF">2007-11-16T02:31:22Z</dcterms:modified>
  <cp:revision>3</cp:revision>
  <dc:subject/>
  <dc:title>How Cells Divide</dc:title>
</cp:coreProperties>
</file>