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EB9C-C705-45EA-A672-F1ACD2320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267B-8682-4B59-8900-B6B22F98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E072-2279-4BCD-BAC3-71695EDB5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31D8-6E56-4D15-AA4D-396D0CC96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B784-4E75-4635-8AC1-831BA3EF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BA73-42A3-44B1-B639-819614FD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E4BC-FAF7-48CB-A4DC-7E8F8EBF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2C86-B915-4B12-811A-63146ABB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3C40-6893-4CBB-B188-F42D14A5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5BC0-8191-46D5-910B-C7B6FC93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3547-8995-4814-A10C-0AC3CBC6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E805-3492-428A-9F39-0E2DAD2E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BC94-67D4-4C09-95C8-7F278D97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33BE-A1B9-492D-84C9-586BB8EA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60BA-79AA-4DE9-81FA-E47CAA71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189E-91EF-4BE7-ACD1-5BA0356E9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D8B2-93A7-4325-9105-6822DFC90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AE42-C5DB-4416-B150-372FE374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E7FF-285C-453F-B808-510D14A8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F39B-C6B4-442A-ADA5-A9A263E6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296B-4A11-46BC-8662-5065F632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FEAC-6DA4-47A1-9899-6C472020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5EFC-69D2-4290-88B4-34818A7F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E6BF-EF83-4878-93CB-B92A2DD1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5500-9486-44F0-A414-980D7E16CF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3D04-8A22-4975-944C-54FB23B3C1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How Cells Div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295280" y="12189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apter 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27503" t="3331" r="27503" b="3331"/>
          <a:stretch/>
        </p:blipFill>
        <p:spPr>
          <a:xfrm>
            <a:off x="3124080" y="2209680"/>
            <a:ext cx="2772000" cy="43135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f an organism is larger than another organism, does it mean that the larger organism has larger cell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03280" y="458136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ts Find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t’s move to the la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several prepared slides with different types of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the size of the cells with the size of the organis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each of the cells and relative size and answer the question given at the beginning of the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r results should look like this in your lab notebook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600200"/>
          <a:ext cx="8147160" cy="3724200"/>
        </p:xfrm>
        <a:graphic>
          <a:graphicData uri="http://schemas.openxmlformats.org/drawingml/2006/table">
            <a:tbl>
              <a:tblPr/>
              <a:tblGrid>
                <a:gridCol w="4073400"/>
                <a:gridCol w="4073760"/>
              </a:tblGrid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awing one (Cell typ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awing two (Cell typ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awing three (Cell typ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awing four (Cell typ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swer to the question her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067280" y="55897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… why are all cells very close to the same size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A “Overloa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NA information is not enough for the c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k of a small town vs. a large t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hanging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hange is dependent on surface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od and oxygen use and waste production is dependent on vol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… there is a relationship between volume and surface are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tio of Surface area to Volu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x 1 x 6 = 6 cm sq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x 1 x 1 = 1 cm cub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:1 Rat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what happens if the size of the cell doubles?  Figure it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vision of the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 cell gets too big it divides… This is called cell divi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rcRect l="27503" t="3331" r="27503" b="3331"/>
          <a:stretch/>
        </p:blipFill>
        <p:spPr>
          <a:xfrm>
            <a:off x="4716360" y="1484280"/>
            <a:ext cx="40388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view and understand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do the assessment questions on page 243 now.  If you finish you don’t have homework.  If you don’t these questions will be checked next class we have toge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02:13:50Z</dcterms:created>
  <dc:creator>IBM</dc:creator>
  <dc:description/>
  <dc:language>en-US</dc:language>
  <cp:lastModifiedBy>IBM</cp:lastModifiedBy>
  <dcterms:modified xsi:type="dcterms:W3CDTF">2007-11-16T02:31:22Z</dcterms:modified>
  <cp:revision>3</cp:revision>
  <dc:subject/>
  <dc:title>How Cells Divide</dc:title>
</cp:coreProperties>
</file>