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147E-F028-445C-B15F-6DF7ED23D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0864-CA2E-4B19-A086-D02A71F1A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57C6-11EB-4367-8A89-5BBAD3DF9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9F2F-D824-422D-AD5A-108622880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855F3-7AA0-458E-BE41-695BA458C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6ADAA-2F48-4AB5-835F-3C871EA81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EF684-A1E6-402A-8969-D107AD6CA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72A38-6F5A-4572-A839-C031E79A0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5222B-A47B-4B0D-AACF-3C4539D79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8B34E-89DC-4160-ACB4-E6CA89C88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699EE-180A-4D32-9A73-06E6B28A3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0D96-B3AF-401F-A615-2CB80C211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E2326-6ECC-4A15-BCC3-61E6BEFDC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47CEF-B3CC-41D7-9C75-6CEFDE4B4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B44B6-B3AC-47BF-8E63-9A6EC9F6D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2DEC5-81DF-4F5A-A51A-8BFFF50C1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69153-6D70-42E8-B8D2-7B1EA95C7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612D-79D7-407E-B72D-95882C912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83F3-FA3B-4C82-932E-7375274FF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60CB-4E75-42DD-A86E-ED3D8BFFC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51EC-0D66-4A55-9AA3-47022961B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CAB9-2925-439E-A8E0-CF0A68653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1524-C5B4-4103-8B4B-1C6D52231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39DD-7E2A-48BD-B345-72B49FDB0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14298-847B-4C78-B6F2-19A23E88A18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8A570-7C26-447B-9345-970B341EE08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Arial"/>
              </a:rPr>
              <a:t>How Cells Divid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295280" y="121896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hapter 1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rcRect l="27503" t="3331" r="27503" b="3331"/>
          <a:stretch/>
        </p:blipFill>
        <p:spPr>
          <a:xfrm>
            <a:off x="3124080" y="2209680"/>
            <a:ext cx="2772000" cy="431352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f an organism is larger than another organism, does it mean that the larger organism has larger cell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403280" y="4581360"/>
            <a:ext cx="58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ets Find o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et’s move to the lab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are several prepared slides with different types of cell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are the size of the cells with the size of the organis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aw each of the cells and relative size and answer the question given at the beginning of the cla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Your results should look like this in your lab notebook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457200" y="1600200"/>
          <a:ext cx="8147160" cy="3724200"/>
        </p:xfrm>
        <a:graphic>
          <a:graphicData uri="http://schemas.openxmlformats.org/drawingml/2006/table">
            <a:tbl>
              <a:tblPr/>
              <a:tblGrid>
                <a:gridCol w="4073400"/>
                <a:gridCol w="4073760"/>
              </a:tblGrid>
              <a:tr h="11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rawing one (Cell type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rawing two (Cell type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6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rawing three (Cell type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rawing four (Cell type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nswer to the question here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4067280" y="5589720"/>
            <a:ext cx="228600" cy="2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o… why are all cells very close to the same size?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9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NA “Overload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NA information is not enough for the cel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nk of a small town vs. a large tow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changing materi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change is dependent on surface ar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od and oxygen use and waste production is dependent on volu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… there is a relationship between volume and surface are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tio of Surface area to Volum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 x 1 x 6 = 6 cm sq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 x 1 x 1 = 1 cm cub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:1 Rati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w what happens if the size of the cell doubles?  Figure it ou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ivision of the cel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a cell gets too big it divides… This is called cell divis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rcRect l="27503" t="3331" r="27503" b="3331"/>
          <a:stretch/>
        </p:blipFill>
        <p:spPr>
          <a:xfrm>
            <a:off x="4716360" y="1484280"/>
            <a:ext cx="4038840" cy="51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view and understand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ease do the assessment questions on page 243 now.  If you finish you don’t have homework.  If you don’t these questions will be checked next class we have togeth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4T02:13:50Z</dcterms:created>
  <dc:creator>IBM</dc:creator>
  <dc:description/>
  <dc:language>en-US</dc:language>
  <cp:lastModifiedBy>IBM</cp:lastModifiedBy>
  <dcterms:modified xsi:type="dcterms:W3CDTF">2007-11-16T02:31:22Z</dcterms:modified>
  <cp:revision>3</cp:revision>
  <dc:subject/>
  <dc:title>How Cells Divide</dc:title>
</cp:coreProperties>
</file>