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2622-1C18-48C8-B230-99533813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77B6-29CE-469E-8862-8DDF3363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66CD-3940-4D51-B5FA-6AB4BD0DA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36A2-8919-404B-8109-920340625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B2802-036A-4FE0-94CD-6B431AD19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AFD43-1A7F-4EF6-9304-29910C00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D34B4-91E1-4508-8B90-4353A618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24A43-CD5A-43DC-BD76-150AC838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129BC-3B73-4C34-B9BA-1C1EA1C3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94D6D-9CD8-4B79-8089-FD93F60F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01E5D-7C39-45C1-9AF6-74AF9AA4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FAF3-F8BB-4422-95C6-DDFEC94E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44E3E-2B37-4AC6-9CF4-95C7FBD7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C89EE-25B2-415C-8FEE-980000CB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80865-3ABC-467C-97F6-8B787147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69A15-EFA2-454D-B7CA-0299A865E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0E3F0-2B09-4EB0-85C6-6FFECF106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0B95-7C96-40F2-BC27-90BA22AC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FFCA-0459-4986-AE77-7E894175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5A08-8C9C-4FBE-B36C-9DE94733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4D4D-C712-40A7-9831-67BAD965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BBAE-1663-4343-8FFC-7A9B8065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3F92-5B12-4DC9-A7CC-530DC1DC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1208-E458-44D2-8E3B-C6D56C64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5193-7143-4A50-B14B-C8D10E0AD2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F150-7C0D-49C2-9944-0CA9AF3EEF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arwin Presents His Cas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tion 15-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This section explains the concepts of artificial selection, natural selection, and fitness. It also describes evidence for evolu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Evolution by Natural Sele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ness  - The ability of an individual to survive and reproduce in its specific enviro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aptation  - Any inherited characteristic that increases an organism’s chance of surviv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ural selection - Survival of the fit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Darwin’s Theory of Evolu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 following sentence true or false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aptations can be physical characteristics but not more complex features such as behavior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l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Darwin’s Theory of Evolu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ain what Darwin meant by the phras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urvival of the fitte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ividuals that are better suited to their environment survive and reproduce most successfully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Darwin’s Theory of Evolu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rcle the letter of each sentence that is true about natural selection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selects traits that increase fitnes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takes place without human control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Darwin’s Theory of Evolu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inciple that living species descend, with changes, from other species over time is referred to as_______ 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escent with modif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Darwin’s Theory of Evolu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inciple that all species were derived from common ancestors is known a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________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on Desc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vidence of Evolution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 following sentence true or false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rwin argued that living things have bee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olving on Earth for thousands of year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ls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mplete the concept map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236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o fossils that formed in different rock layers provide evidence of evolu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document the fact that life on Earth has changed over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rcle the letter of the way Darwin explained the distribution of finch species on the Galápagos Islan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had descended with modification from a common mainland ancest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ublication of 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On the Origin of Spec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 following sentence true or fals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Darwin returned to England, he rushed to publish his thoughts about evolution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l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id Darwin explain the existence of similar but unrelated speci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rwin thought that such species evolved features in common because they were exposed to similar pressures of natural selec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uctures that have different mature forms but develop from the same embryonic tissues are called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OLOGOUS STRUCT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 following sentence true or false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ologous structures provide strong evidence that all four-limbed vertebrates have descended, with modifications, from common ancesto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s that are so reduced in size that they are just vestiges, or traces, of homologous organs in other species are called 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STIGAL ORGAN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ummary of Darwin’s Theo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rcle the letter of each idea that is part of Darwin’s theory of evolu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is variation in nature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wer organisms are produced than can surviv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es change over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ummary of Darwin’s Theo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ording to Darwin’s theory, what happens to individuals whose characteristics are not well suited to their environment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ch individuals die or leave fewer offspr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ummary of Darwin’s Theo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rwin believed that all organisms on Earth are united into a single tree of life 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cent with modif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Evolutionary Theory Since Darwi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status of Darwin’s hypotheses today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have been confirmed an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anded by scientific advances in biology, geology, and physic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ublication of 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On the Origin of Spec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aturalist whose essay gave Darwin an incentive to publish his own work was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fred Russel Wall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ublication of 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On the Origin of Spec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rcle the letter of each sentence that is true about Darwin’s book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On the Origin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of Species.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contained evidence for evolution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described natural selection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nherited Variation and Artificial Selectio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erences among individuals of a species are referred to as __________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ri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nherited Variation and Artificial Sele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 following sentence true or fals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tic variation is found only in wild organisms in nature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l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nherited Variation and Artificial Sele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rcle the letter of each sentence that is true about artificial selection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also called selective breed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occurs when humans select natural variations they find useful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produces organisms that look very different from their ancestor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Evolution by Natural Sele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was Darwin’s greatest contribution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greatest contribution was developing a scientific hypothesis to explain how evolution occur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Evolution by Natural Sele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es the phras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truggle for existenc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means that members of each species compete regularly to obtain food, living space, and other necessities of life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7:57:32Z</dcterms:created>
  <dc:creator>Administrator</dc:creator>
  <dc:description/>
  <dc:language>en-US</dc:language>
  <cp:lastModifiedBy>Administrator</cp:lastModifiedBy>
  <dcterms:modified xsi:type="dcterms:W3CDTF">2006-03-14T18:27:34Z</dcterms:modified>
  <cp:revision>5</cp:revision>
  <dc:subject/>
  <dc:title>Darwin Presents His Case </dc:title>
</cp:coreProperties>
</file>