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FF8-0FFA-4CF7-BE35-4B349806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A64-9B2C-4083-A823-7789E875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89B-DCE7-4153-B1A6-6615ADFA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6CF-1325-4C04-B0DE-D72051CC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371F2-7694-4893-9372-B7A7C1E0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077C0-E3D5-457A-870A-5A3D18B5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F52BD-6C5B-448A-A32F-135B1EC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8955F-5DEC-4D95-9599-CA7763D3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B8B03-55B2-4232-8C3F-A1C0505A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73DF3-68C0-4565-8EFE-45843DF7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66CE8-1321-445B-ACD4-6FEC842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194-149C-4ADC-87ED-2C8BF958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98783-ED21-4326-9B4A-EEEF575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01A03-87DE-4B4A-9501-B8020AB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84770-A5EF-4C7A-BA1B-F90B7AAC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6CEAF-A65B-4E27-939B-D403FCD1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5BBD3-FDEE-4421-B657-ABF8DE0E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3F1-FAD2-4B24-AE4F-E432EC8B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048-44E1-4C70-85E6-E743D12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E6A-2CD8-45FB-8F4F-539C5C3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2E6-89C2-467E-B782-5B72BF93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F56-F7D7-40E3-9B70-F4C79E00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6F9-2A9C-4F5E-9128-30626DD5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B99-BBBF-4DC5-856C-78F51FC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E2F2-2C84-4C5E-835E-B2D8DFA2A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643D-9393-40B3-8600-86B595D73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rwin Presents His Ca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tion 15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is section explains the concepts of artificial selection, natural selection, and fitness. It also describes evidence for 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ness  - The ability of an individual to survive and reproduce in its specific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ptation  - Any inherited characteristic that increases an organism’s chance of surv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ural selection - Survival of the fit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tions can be physical characteristics but not more complex features such as behavi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at Darwin meant by the phra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urvival of the fitt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s that are better suited to their environment survive and reproduce most successfully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each sentence that is true about natural selecti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elects traits that increase fitnes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takes place without human contro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nciple that living species descend, with changes, from other species over time is referred to as_______ 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cent with m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nciple that all species were derived from common ancestors is known a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Des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idence of Evolu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argued that living things have be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lving on Earth for thousands of yea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lete the concept map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236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fossils that formed in different rock layers provide evidence of 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cument the fact that life on Earth has changed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the way Darwin explained the distribution of finch species on the Galápagos Isl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d descended with modification from a common mainland ances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arwin returned to England, he rushed to publish his thoughts about evolu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Darwin explain the existence of similar but unrelated spec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thought that such species evolved features in common because they were exposed to similar pressures of natural se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that have different mature forms but develop from the same embryonic tissues are called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LOGOUS STRUC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logous structures provide strong evidence that all four-limbed vertebrates have descended, with modifications, from common ances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s that are so reduced in size that they are just vestiges, or traces, of homologous organs in other species are called 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STIGAL ORGA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le the letter of each idea that is part of Darwin’s theory of evol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variation in natur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wer organisms are produced than can surv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es change over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rding to Darwin’s theory, what happens to individuals whose characteristics are not well suited to their environmen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individuals die or leave fewer offsp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believed that all organisms on Earth are united into a single tree of life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ent with mod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ary Theory Since Darwi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status of Darwin’s hypotheses toda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been confirmed 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by scientific advances in biology, geology, and physic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turalist whose essay gave Darwin an incentive to publish his own work w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red Russel Wal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each sentence that is true about Darwin’s book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n the Origin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f Species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ntained evidence for evolu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described natural selec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ces among individuals of a species are referred to as __________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variation is found only in wild organisms in natur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le the letter of each sentence that is true about artificial selection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lso called selective bree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occurs when humans select natural variations they find useful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duces organisms that look very different from their ancestor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Darwin’s greatest contributio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greatest contribution was developing a scientific hypothesis to explain how evolution occu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e phra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truggle for existen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means that members of each species compete regularly to obtain food, living space, and other necessities of lif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7:57:32Z</dcterms:created>
  <dc:creator>Administrator</dc:creator>
  <dc:description/>
  <dc:language>en-US</dc:language>
  <cp:lastModifiedBy>Administrator</cp:lastModifiedBy>
  <dcterms:modified xsi:type="dcterms:W3CDTF">2006-03-14T18:27:34Z</dcterms:modified>
  <cp:revision>5</cp:revision>
  <dc:subject/>
  <dc:title>Darwin Presents His Case </dc:title>
</cp:coreProperties>
</file>