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8262-D976-44C6-A9AE-5C6E2D6F6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3880-836B-46A4-9610-031A9A5E9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17E9-520F-4100-B079-87DBD8B82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00BE-3CE2-4303-BDF6-B5DDFFC96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1A374B-0750-4E19-830B-01CBFBFBE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0BB596-28AD-4C00-97C7-4CAB43305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33E0B6-6FCB-4452-89C7-41AD38EE1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AD6CA8-58DD-4683-8671-98D993802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F853FE-1C25-4273-99DE-900D94491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6D36D8-833B-4C43-886A-1B44D86D5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A77C53-06AE-4A3B-8572-A92B8A2B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A068-9EE0-485E-9BBD-EA95C5DCE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CA31BD-34A2-4B7A-B750-8E620BB1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3C6EED-4616-4646-80A5-DB65F40A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0BEB6D-48FD-48BF-8011-AF1CD12AA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F0A602-FAC7-4556-BEC1-EEA2E79D5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CC9AF4-06D3-486F-9790-9267E70BE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CA26-CD68-4712-B564-06F04C495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75E6-9929-4637-A38E-7A374D907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1D63-2B0E-45B0-8A74-F2BEA90E8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A739-F57E-44CF-A082-DBA158F8E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70E5-1604-42AD-BC0E-2A1F4137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B8ED-3F68-48E2-9A97-D945DF97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CF87-BF61-41F3-970A-FC40F6C09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0433A-5952-4C6B-80E5-B5C6C2F71A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226A0-F471-4439-84AB-B46B58535A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arwin Presents His Case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ction 15-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This section explains the concepts of artificial selection, natural selection, and fitness. It also describes evidence for evolu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Evolution by Natural Selec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ness  - The ability of an individual to survive and reproduce in its specific environ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aptation  - Any inherited characteristic that increases an organism’s chance of surviv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ural selection - Survival of the fitte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Darwin’s Theory of Evolu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the following sentence true or false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aptations can be physical characteristics but not more complex features such as behavior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l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Darwin’s Theory of Evolu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lain what Darwin meant by the phrase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survival of the fittes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ividuals that are better suited to their environment survive and reproduce most successfully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Darwin’s Theory of Evolu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ircle the letter of each sentence that is true about natural selection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selects traits that increase fitness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takes place without human control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Darwin’s Theory of Evolu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inciple that living species descend, with changes, from other species over time is referred to as_______ 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escent with modifi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Darwin’s Theory of Evolu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inciple that all species were derived from common ancestors is known a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________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mon Desc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vidence of Evolution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the following sentence true or false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rwin argued that living things have bee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olving on Earth for thousands of years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ls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mplete the concept map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1676520"/>
            <a:ext cx="92361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do fossils that formed in different rock layers provide evidence of evolut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document the fact that life on Earth has changed over ti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ircle the letter of the way Darwin explained the distribution of finch species on the Galápagos Island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had descended with modification from a common mainland ancesto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Publication of </a:t>
            </a: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On the Origin of Speci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the following sentence true or fals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Darwin returned to England, he rushed to publish his thoughts about evolution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l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did Darwin explain the existence of similar but unrelated specie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rwin thought that such species evolved features in common because they were exposed to similar pressures of natural selec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ructures that have different mature forms but develop from the same embryonic tissues are called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MOLOGOUS STRUCT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the following sentence true or false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mologous structures provide strong evidence that all four-limbed vertebrates have descended, with modifications, from common ancesto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gans that are so reduced in size that they are just vestiges, or traces, of homologous organs in other species are called 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STIGAL ORGAN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Summary of Darwin’s Theor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ircle the letter of each idea that is part of Darwin’s theory of evolu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is variation in nature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wer organisms are produced than can surviv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ecies change over t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Summary of Darwin’s Theor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cording to Darwin’s theory, what happens to individuals whose characteristics are not well suited to their environment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ch individuals die or leave fewer offspr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Summary of Darwin’s Theor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rwin believed that all organisms on Earth are united into a single tree of life b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cent with modifi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Evolutionary Theory Since Darwin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the status of Darwin’s hypotheses today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have been confirmed and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anded by scientific advances in biology, geology, and physic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Publication of </a:t>
            </a: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On the Origin of Speci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naturalist whose essay gave Darwin an incentive to publish his own work was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fred Russel Wall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Publication of </a:t>
            </a: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On the Origin of Speci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ircle the letter of each sentence that is true about Darwin’s book,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On the Origin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of Species.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contained evidence for evolution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described natural selection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Inherited Variation and Artificial Selection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fferences among individuals of a species are referred to as __________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ri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Inherited Variation and Artificial Selec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the following sentence true or fals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etic variation is found only in wild organisms in nature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l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Inherited Variation and Artificial Selec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ircle the letter of each sentence that is true about artificial selection.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is also called selective breed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occurs when humans select natural variations they find useful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produces organisms that look very different from their ancestors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Evolution by Natural Selec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was Darwin’s greatest contribution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s greatest contribution was developing a scientific hypothesis to explain how evolution occurs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Evolution by Natural Selec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es the phrase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struggle for existenc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a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means that members of each species compete regularly to obtain food, living space, and other necessities of life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17:57:32Z</dcterms:created>
  <dc:creator>Administrator</dc:creator>
  <dc:description/>
  <dc:language>en-US</dc:language>
  <cp:lastModifiedBy>Administrator</cp:lastModifiedBy>
  <dcterms:modified xsi:type="dcterms:W3CDTF">2006-03-14T18:27:34Z</dcterms:modified>
  <cp:revision>5</cp:revision>
  <dc:subject/>
  <dc:title>Darwin Presents His Case </dc:title>
</cp:coreProperties>
</file>