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7D9-2354-44CA-80F3-EEC8B788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9F3-B80A-4048-A446-F466F557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694-61DC-46EA-853A-1A76F9E7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760-84E8-4FDA-B6DE-DE3AD783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2810C-EC7B-400E-BDCC-750FBAE4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FDA4-6E02-4C20-B88B-4535E8A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33C4B-F8A3-441F-99A7-52EFBF0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CD60D-77AC-4D61-83EB-0472DB16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BE24E-CD06-4A7D-9847-7DB33854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7C2D2-D685-4625-B59A-64A4EFCB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85707-DB6F-4462-BF89-0C6503D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CF5-5AFE-4166-886E-105D19ED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A96E4-4401-4FD4-B3C9-D08DAEED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02111-8E29-4969-BDAF-B56C268B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C58B8-7A38-4939-B9BB-291348C8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3E2B9-DA8F-4936-B589-12150E9F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E853C-6B90-4B2D-B5CC-BFFEA37C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6F0-45C9-4218-89C9-9C4D86F7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A40-1E81-4E51-AB8A-3965589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CDC-9BE0-462A-BF92-12227D1E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E0F-23F2-4B8E-896C-D605E65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9B1-3F3E-4E9B-B014-747E1BC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DC5-CD86-44A4-A507-E434E3F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313-0044-4189-99EA-068A6CD6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BF42-0F45-4207-B38A-EDC36C4E8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F795-2D36-43EC-9A23-DA58715A7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rwin Presents His Ca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tion 15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is section explains the concepts of artificial selection, natural selection, and fitness. It also describes evidence for 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ness  - The ability of an individual to survive and reproduce in its specific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ptation  - Any inherited characteristic that increases an organism’s chance of surv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ural selection - Survival of the fit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tions can be physical characteristics but not more complex features such as behavi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at Darwin meant by the phra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urvival of the fitt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s that are better suited to their environment survive and reproduce most successfully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each sentence that is true about natural selecti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elects traits that increase fitnes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takes place without human contro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nciple that living species descend, with changes, from other species over time is referred to as_______ 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cent with m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nciple that all species were derived from common ancestors is known a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Des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idence of Evolu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argued that living things have be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lving on Earth for thousands of yea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lete the concept map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236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fossils that formed in different rock layers provide evidence of 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cument the fact that life on Earth has changed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the way Darwin explained the distribution of finch species on the Galápagos Isl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d descended with modification from a common mainland ances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arwin returned to England, he rushed to publish his thoughts about evolu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Darwin explain the existence of similar but unrelated spec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thought that such species evolved features in common because they were exposed to similar pressures of natural se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that have different mature forms but develop from the same embryonic tissues are called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LOGOUS STRUC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logous structures provide strong evidence that all four-limbed vertebrates have descended, with modifications, from common ances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s that are so reduced in size that they are just vestiges, or traces, of homologous organs in other species are called 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STIGAL ORGA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le the letter of each idea that is part of Darwin’s theory of evol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variation in natur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wer organisms are produced than can surv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es change over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rding to Darwin’s theory, what happens to individuals whose characteristics are not well suited to their environmen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individuals die or leave fewer offsp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believed that all organisms on Earth are united into a single tree of life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ent with mod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ary Theory Since Darwi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status of Darwin’s hypotheses toda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been confirmed 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by scientific advances in biology, geology, and physic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turalist whose essay gave Darwin an incentive to publish his own work w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red Russel Wal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each sentence that is true about Darwin’s book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n the Origin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f Species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ntained evidence for evolu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described natural selec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ces among individuals of a species are referred to as __________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variation is found only in wild organisms in natur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le the letter of each sentence that is true about artificial selection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lso called selective bree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occurs when humans select natural variations they find useful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duces organisms that look very different from their ancestor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Darwin’s greatest contributio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greatest contribution was developing a scientific hypothesis to explain how evolution occu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e phra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truggle for existen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means that members of each species compete regularly to obtain food, living space, and other necessities of lif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7:57:32Z</dcterms:created>
  <dc:creator>Administrator</dc:creator>
  <dc:description/>
  <dc:language>en-US</dc:language>
  <cp:lastModifiedBy>Administrator</cp:lastModifiedBy>
  <dcterms:modified xsi:type="dcterms:W3CDTF">2006-03-14T18:27:34Z</dcterms:modified>
  <cp:revision>5</cp:revision>
  <dc:subject/>
  <dc:title>Darwin Presents His Case </dc:title>
</cp:coreProperties>
</file>