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9ED-007C-400D-9F22-ABE870C3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773-90D8-4F77-8C23-9D262FA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1B8-F16A-4C2D-BD78-6A1EC412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3D4-8A8E-4270-9AD8-57100566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8BE5-FCFF-49B9-9937-82B14675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45F-6759-4AD8-B717-BB84A0AE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7479-2430-417C-93C7-D3374C91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E020-90D0-4CC3-BEB0-3C7AECBA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68B9-58D6-468F-A69B-20BA98E4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DEF-E533-4437-9F20-EB3D78B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D291-7222-4A56-A861-7599DA2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DBD-7F70-41EB-86C6-203C789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BD9-B3C8-4480-A238-7564268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CD98-397D-4AD7-8F44-F3B7ABD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CEA9-654A-41B8-B1FC-32673CB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9CF6-87B3-443C-B0DE-D4016A5B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126C-3979-416D-981F-AEFA3800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CEC-1DE9-4C35-9712-8CB6FBD9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5F8-7727-4E92-B315-1104211A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559-65FE-40D0-8C57-EE05EE71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D15-1746-4C10-88EF-98B8368F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652-BBFE-44E2-9654-214869C6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206-D53B-4697-808B-B674AB26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7B8-3824-4D20-9370-4BEFD66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F4B-515E-4FFC-9D51-9F2ABCF694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BFC5-4EDF-4D79-BA90-D5ECA16D8E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NA and the Genetic Code</a:t>
            </a:r>
            <a:br>
              <a:rPr sz="6200"/>
            </a:b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gene one protein hypothe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GATGATGCAGTAGCA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NA Ed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331" r="0" b="10000"/>
          <a:stretch/>
        </p:blipFill>
        <p:spPr>
          <a:xfrm>
            <a:off x="1042920" y="1828800"/>
            <a:ext cx="6985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NA Co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392" r="0" b="15936"/>
          <a:stretch/>
        </p:blipFill>
        <p:spPr>
          <a:xfrm>
            <a:off x="32400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initiation complex forms, large ribosome subunit binds, exposing mRNA codon adjacent to the initiating codon, positioning it for interaction with another amino acid-bearing tRNA molec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ns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bosome moves nucleotides along mRNA molec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3339" r="0" b="23339"/>
          <a:stretch/>
        </p:blipFill>
        <p:spPr>
          <a:xfrm>
            <a:off x="838080" y="3429000"/>
            <a:ext cx="7315200" cy="2925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ense codons are recognized by release factors that release the newly made polypeptide from the ribos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18339" r="0" b="25000"/>
          <a:stretch/>
        </p:blipFill>
        <p:spPr>
          <a:xfrm>
            <a:off x="914400" y="3505320"/>
            <a:ext cx="7315200" cy="310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-class.unl.edu/biochem/gp2/m_biology/animation/gene/gene_a3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ck this l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/W Section 12.3 Section Assess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fferent types of 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three different types of 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62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386240" cy="57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27664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ries the amino acid to the site for building prote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s up parts of the ribosomes where protein synthesis takes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16440" y="0"/>
            <a:ext cx="52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ATTAAGCATCGATCGTAGCCATAGATCGATGCATCAGT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rt and Stop cod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GG universal start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AG, UGA, UAA stop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ly …. What is a codon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ral Dogma of Gene Ex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2496" r="0" b="0"/>
          <a:stretch/>
        </p:blipFill>
        <p:spPr>
          <a:xfrm>
            <a:off x="1371600" y="1371600"/>
            <a:ext cx="632448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5:10:42Z</dcterms:created>
  <dc:creator>IBM</dc:creator>
  <dc:description/>
  <dc:language>en-US</dc:language>
  <cp:lastModifiedBy>ASB</cp:lastModifiedBy>
  <dcterms:modified xsi:type="dcterms:W3CDTF">2008-01-28T00:52:26Z</dcterms:modified>
  <cp:revision>8</cp:revision>
  <dc:subject/>
  <dc:title>DNA and the Genetic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