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B0E-F16A-43FA-9FAF-EF5373E9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1A5-BD1E-476B-A14A-34B3A0FB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CC4-2760-4055-A7BE-388FB747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28A-7715-4B5E-9A28-EFEE9B03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363F-606B-423D-8322-15A5082A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B6E0-0878-44E6-9B97-6F940847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3D5E-F1F9-4595-821D-19EA9FCB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36A7-7318-4CB5-8CB3-EA08BCCC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B12A-49D6-4F12-9F15-1939E358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5896-4E4F-41F1-ADE9-7C2A198C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C114-029F-4ABB-A96E-1D0671A0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56D-E77A-4AB1-AAB5-4BB76B68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91F9-1128-41EF-9B50-6D382B48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22BB-805D-45B6-BD41-A53ACB53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6626-A9B4-4549-99D3-08D8D3FA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E205-46D1-4F2D-8487-6F178D77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D6EA-E7FF-4CCD-AFCF-5929B46B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D6B-930E-4E47-8D15-11AA5266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A1F-74E3-44CA-9DAD-50A53686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B7A-9540-4120-ADE8-FEA8D553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6C2-3441-4D5C-AD55-C4612233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F71-74FD-4493-8D98-B4620407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20C-3369-42C2-BB91-003D4209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7EA9-F6A7-445E-B464-54D451EC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7BC4-0303-4991-ADCA-D47B99BAA4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4EBE-13DD-47B2-8440-2AA11F9FFA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-class.unl.edu/biochem/gp2/m_biology/animation/gene/gene_a3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NA and the Genetic Code</a:t>
            </a:r>
            <a:br>
              <a:rPr sz="6200"/>
            </a:b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 gene one protein hypothe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TAGATGATGCAGTAGCAA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NA Edi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13331" r="0" b="10000"/>
          <a:stretch/>
        </p:blipFill>
        <p:spPr>
          <a:xfrm>
            <a:off x="1042920" y="1828800"/>
            <a:ext cx="6985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NA Co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2392" r="0" b="15936"/>
          <a:stretch/>
        </p:blipFill>
        <p:spPr>
          <a:xfrm>
            <a:off x="324000" y="1125360"/>
            <a:ext cx="8497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Elong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ter initiation complex forms, large ribosome subunit binds, exposing mRNA codon adjacent to the initiating codon, positioning it for interaction with another amino acid-bearing tRNA molecu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ranslo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ibosome moves nucleotides along mRNA molec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23339" r="0" b="23339"/>
          <a:stretch/>
        </p:blipFill>
        <p:spPr>
          <a:xfrm>
            <a:off x="838080" y="3429000"/>
            <a:ext cx="7315200" cy="2925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ermin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nsense codons are recognized by release factors that release the newly made polypeptide from the ribos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18339" r="0" b="25000"/>
          <a:stretch/>
        </p:blipFill>
        <p:spPr>
          <a:xfrm>
            <a:off x="914400" y="3505320"/>
            <a:ext cx="7315200" cy="31082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 Ani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-class.unl.edu/biochem/gp2/m_biology/animation/gene/gene_a3.ht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eck this li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/W Section 12.3 Section Assess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ifferent types of 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re are three different types of 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4608720" cy="5185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8360" y="62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4386240" cy="575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2276640"/>
            <a:ext cx="24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ries the amino acid to the site for building prote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kes up parts of the ribosomes where protein synthesis takes pl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crip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16440" y="0"/>
            <a:ext cx="522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ATTAAGCATCGATCGTAGCCATAGATCGATGCATCAGT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695600"/>
            <a:ext cx="9144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cription Ani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819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art and Stop cod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GG universal start cod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AG, UGA, UAA stop cod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989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ly …. What is a codon?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ntral Dogma of Gene Ex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2496" r="0" b="0"/>
          <a:stretch/>
        </p:blipFill>
        <p:spPr>
          <a:xfrm>
            <a:off x="1371600" y="1371600"/>
            <a:ext cx="6324480" cy="46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5:10:42Z</dcterms:created>
  <dc:creator>IBM</dc:creator>
  <dc:description/>
  <dc:language>en-US</dc:language>
  <cp:lastModifiedBy>ASB</cp:lastModifiedBy>
  <dcterms:modified xsi:type="dcterms:W3CDTF">2008-01-28T00:52:26Z</dcterms:modified>
  <cp:revision>8</cp:revision>
  <dc:subject/>
  <dc:title>DNA and the Genetic Cod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