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FD3-1B80-4E1F-A38A-59210E7A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5D1-24CB-47D1-80F9-ABAA335B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EE1-4DC1-4C02-A7AB-CC8FCE1E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BBD-E271-4FD7-A29E-0FE66308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124B-2A62-4B6F-9B5D-F38EFB51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8BBF-4834-4529-9854-2654D7FC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F4E3-783E-400E-B824-D4B290AF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F53-3BAC-44D1-82CB-F1A0DF02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D667-1639-4451-B232-126C74E7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5DB9-182A-4170-9039-6741FC4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CD2F-70D6-4201-BD0C-AE4C2EE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298-94AF-4795-BAF4-8C6A160B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316-B46A-4D62-A6AD-F27D295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44F4-6B35-473A-BDDA-51A3CA21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E7EC-EC10-401A-9E10-1B1F2E5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4907-C105-4C31-AD8E-247329C5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318D-5488-4116-871D-C412DBC8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B66-F56A-4679-9139-4A8709F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CA6-DD1E-40B4-AAE3-1F42B80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26F-FCC5-42D4-BB8C-C9A59837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C27-427C-4099-9F13-87602EB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6E9-9418-485E-82EF-EC39407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DAC-F6F0-4D7C-914A-3170229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E5C-8140-4A8E-AD2D-4A63F791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BD89-AB3E-4E80-9603-5EEE3078AE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AC4D-0850-4FE9-880F-1008D401A2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NA and the Genetic Code</a:t>
            </a:r>
            <a:br>
              <a:rPr sz="6200"/>
            </a:b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gene one protein hypothe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GATGATGCAGTAGCA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NA Ed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331" r="0" b="10000"/>
          <a:stretch/>
        </p:blipFill>
        <p:spPr>
          <a:xfrm>
            <a:off x="1042920" y="1828800"/>
            <a:ext cx="6985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NA Co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392" r="0" b="15936"/>
          <a:stretch/>
        </p:blipFill>
        <p:spPr>
          <a:xfrm>
            <a:off x="32400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initiation complex forms, large ribosome subunit binds, exposing mRNA codon adjacent to the initiating codon, positioning it for interaction with another amino acid-bearing tRNA molec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ns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bosome moves nucleotides along mRNA molec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3339" r="0" b="23339"/>
          <a:stretch/>
        </p:blipFill>
        <p:spPr>
          <a:xfrm>
            <a:off x="838080" y="3429000"/>
            <a:ext cx="7315200" cy="2925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ense codons are recognized by release factors that release the newly made polypeptide from the ribos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18339" r="0" b="25000"/>
          <a:stretch/>
        </p:blipFill>
        <p:spPr>
          <a:xfrm>
            <a:off x="914400" y="3505320"/>
            <a:ext cx="7315200" cy="310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-class.unl.edu/biochem/gp2/m_biology/animation/gene/gene_a3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ck this l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/W Section 12.3 Section Assess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fferent types of 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three different types of 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62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386240" cy="57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27664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ries the amino acid to the site for building prote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s up parts of the ribosomes where protein synthesis takes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16440" y="0"/>
            <a:ext cx="52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ATTAAGCATCGATCGTAGCCATAGATCGATGCATCAGT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rt and Stop cod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GG universal start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AG, UGA, UAA stop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ly …. What is a codon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ral Dogma of Gene Ex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2496" r="0" b="0"/>
          <a:stretch/>
        </p:blipFill>
        <p:spPr>
          <a:xfrm>
            <a:off x="1371600" y="1371600"/>
            <a:ext cx="632448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5:10:42Z</dcterms:created>
  <dc:creator>IBM</dc:creator>
  <dc:description/>
  <dc:language>en-US</dc:language>
  <cp:lastModifiedBy>ASB</cp:lastModifiedBy>
  <dcterms:modified xsi:type="dcterms:W3CDTF">2008-01-28T00:52:26Z</dcterms:modified>
  <cp:revision>8</cp:revision>
  <dc:subject/>
  <dc:title>DNA and the Genetic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