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0F75-539F-4888-A44B-5F007413B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55E7-B72E-47DE-BA29-09BDDF5E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6983-5481-48F5-9B05-3E6EEC414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3379-ED1B-4D05-BCBD-AC177638D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55BB-44DB-4810-95A4-EA49ED051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1DD7-BDDC-406E-BBF2-F88681EE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042E-6B6C-46DC-9646-358892B3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EA96-BDC8-4D0C-BA25-6B24F119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5664-2350-4866-B058-DBFAEF07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480D-F19E-4CC8-958C-F21F6B36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E0CD-4B13-400E-9E9D-5AA2F922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F010-FEC3-4AEA-B098-0745E176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062C-C91F-44BF-BC34-3F8071AC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1391-B613-4214-BFD7-442F1B3A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8FB2-7F5B-485E-B5C9-37D9120B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E333-8078-4D34-94E6-7588E7BEE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8AFB-7792-4705-9779-7B4ABFC43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C5EF-8E1B-4834-9A8E-904983B7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5E03-D8DA-47E4-8376-031039BC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858F-16F3-48E7-B901-6AEA2539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6638-9360-441E-9BE8-7928F0BD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52C7-C546-4BC5-A734-10025944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2D5F-C7A8-478B-9D6B-2D69E33B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B878-2A99-43D1-BD4E-A9E44AF2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6DDA-FAC6-4CD8-A78C-9384EAE191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2A3A-45B0-430D-B96C-6DE15673F1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-class.unl.edu/biochem/gp2/m_biology/animation/gene/gene_a3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DNA and the Genetic Code</a:t>
            </a:r>
            <a:br>
              <a:rPr sz="6200"/>
            </a:b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e gene one protein hypothe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TTAGATGATGCAGTAGCAA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NA Edi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13331" r="0" b="10000"/>
          <a:stretch/>
        </p:blipFill>
        <p:spPr>
          <a:xfrm>
            <a:off x="1042920" y="1828800"/>
            <a:ext cx="6985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DNA Co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2392" r="0" b="15936"/>
          <a:stretch/>
        </p:blipFill>
        <p:spPr>
          <a:xfrm>
            <a:off x="324000" y="1125360"/>
            <a:ext cx="84978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nsl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Elong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fter initiation complex forms, large ribosome subunit binds, exposing mRNA codon adjacent to the initiating codon, positioning it for interaction with another amino acid-bearing tRNA molecul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nsl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Transloc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ibosome moves nucleotides along mRNA molec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23339" r="0" b="23339"/>
          <a:stretch/>
        </p:blipFill>
        <p:spPr>
          <a:xfrm>
            <a:off x="838080" y="3429000"/>
            <a:ext cx="7315200" cy="29257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nsl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Termin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nsense codons are recognized by release factors that release the newly made polypeptide from the ribosom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18339" r="0" b="25000"/>
          <a:stretch/>
        </p:blipFill>
        <p:spPr>
          <a:xfrm>
            <a:off x="914400" y="3505320"/>
            <a:ext cx="7315200" cy="31082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nslation Anim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9900"/>
                </a:solidFill>
                <a:uFillTx/>
                <a:latin typeface="Arial"/>
                <a:hlinkClick r:id="rId1"/>
              </a:rPr>
              <a:t>http://www-class.unl.edu/biochem/gp2/m_biology/animation/gene/gene_a3.htm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heck this lin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/W Section 12.3 Section Assessme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different types of R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re are three different types of RN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RN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RN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RN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124000" y="765000"/>
            <a:ext cx="4608720" cy="5185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8360" y="620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R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427640" y="333360"/>
            <a:ext cx="4386240" cy="5759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11280" y="2276640"/>
            <a:ext cx="2448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ries the amino acid to the site for building protei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R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akes up parts of the ribosomes where protein synthesis takes pla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076720" y="3429000"/>
            <a:ext cx="27432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nscrip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16440" y="0"/>
            <a:ext cx="522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ATTAAGCATCGATCGTAGCCATAGATCGATGCATCAGT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695600"/>
            <a:ext cx="91440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nscription Anim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8195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tart and Stop cod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GG universal start cod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AG, UGA, UAA stop cod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98900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stly …. What is a codon??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entral Dogma of Gene Expres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2496" r="0" b="0"/>
          <a:stretch/>
        </p:blipFill>
        <p:spPr>
          <a:xfrm>
            <a:off x="1371600" y="1371600"/>
            <a:ext cx="6324480" cy="462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05:10:42Z</dcterms:created>
  <dc:creator>IBM</dc:creator>
  <dc:description/>
  <dc:language>en-US</dc:language>
  <cp:lastModifiedBy>ASB</cp:lastModifiedBy>
  <dcterms:modified xsi:type="dcterms:W3CDTF">2008-01-28T00:52:26Z</dcterms:modified>
  <cp:revision>8</cp:revision>
  <dc:subject/>
  <dc:title>DNA and the Genetic Cod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