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F610-C074-4E36-AE13-3F43887B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 and C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0D2-3593-49F5-8A7D-14BD1BD1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4CA-1054-4B24-B2FB-E4C19F8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EBF-4D01-4001-800D-2CDFCA0B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383-B010-4853-86EF-A1183D2C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0425-1087-494A-A3D1-18280589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0470-CC8E-4A6B-960F-D4FDF8D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388-A301-444A-89F7-9DCAB5F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4E9-E445-4A86-95D4-A7EEDAA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456F-75F8-46C5-8B80-CFD9D94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E86-FF28-4D01-BC0C-43A1D26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1685-37E9-4241-A0E2-130193A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BE8-3728-4AF5-AC2D-7DF2137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A303-8F88-4A26-8B0E-EC91012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9321-43E4-4E83-8966-9F1B2AA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0131-B221-4A0C-BD28-042A9B04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5D0-E955-43C0-A14B-1E9E846B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D504-CE76-4071-B6C9-E049FA12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DB7-9678-4730-AF3A-75D69EC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D78-1650-432D-8831-6C2955E3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B56-61BA-4482-AA13-5FC11D6D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717-545D-47B9-9F42-CA8898C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EC9-D26E-431D-8861-5DF24D7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339-6BCF-4CD5-BE83-C05B8CC7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0DD-4C02-414B-87C2-207D33D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5129-F5B0-4CAD-A56F-3752B40590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2C0-D652-49A8-BB79-D9118C8F26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3280" y="1989000"/>
          <a:ext cx="613584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1358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Synthesis/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165" r="0" b="0"/>
          <a:stretch/>
        </p:blipFill>
        <p:spPr>
          <a:xfrm>
            <a:off x="1547640" y="1773360"/>
            <a:ext cx="5873760" cy="43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ication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ning DNA double hel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ng re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winding duple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bilizing single str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eving tor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ilding a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sembling complementary str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oving the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ining Okazaki frag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of 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iti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ways occurs at the same 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replication spent in elon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ct details uncl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378" t="3331" r="25004" b="3331"/>
          <a:stretch/>
        </p:blipFill>
        <p:spPr>
          <a:xfrm>
            <a:off x="2362320" y="457200"/>
            <a:ext cx="4417920" cy="61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10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NA made up of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ucleic aci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ucleotid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composed of a five carbon sugar, a phosphate group, and an organic 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tides distinguished by the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ur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large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enine and guan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yrimid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small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tosine and thym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aff’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T  and  G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2502" t="2165" r="12502" b="0"/>
          <a:stretch/>
        </p:blipFill>
        <p:spPr>
          <a:xfrm>
            <a:off x="1332000" y="476280"/>
            <a:ext cx="655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ee-Dimensional Structure of D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8640"/>
            <a:ext cx="8915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X-ray diffraction suggested DNA had helical shape with a 2 nanometer diamet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atson and Cric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duced DNA is an inter-twined double helix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mentary base-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ines pairing with pyrimid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 2 nanometer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arallel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Double Hel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752" t="2165" r="11250" b="0"/>
          <a:stretch/>
        </p:blipFill>
        <p:spPr>
          <a:xfrm>
            <a:off x="1979640" y="1844640"/>
            <a:ext cx="4464000" cy="40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 of 12.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057400" y="2057400"/>
          <a:ext cx="52243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243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karyotic Chromosomal Org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6669" r="0" b="15000"/>
          <a:stretch/>
        </p:blipFill>
        <p:spPr>
          <a:xfrm>
            <a:off x="533520" y="1600200"/>
            <a:ext cx="807696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54:08Z</dcterms:created>
  <dc:creator>IBM</dc:creator>
  <dc:description/>
  <dc:language>en-US</dc:language>
  <cp:lastModifiedBy>ASB</cp:lastModifiedBy>
  <dcterms:modified xsi:type="dcterms:W3CDTF">2008-01-21T06:21:3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