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6410-C34E-4D35-AE12-17E0774D6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son and C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428B-6E84-40B5-94C2-3D3B1F4EF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7F9F-9F79-42E5-A92A-37A92163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EBE2-4ADB-42B8-A566-6C848F1AE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53E2-8D0F-434F-9FCD-26D242BB8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2FA4-8BE0-4B23-B84B-FC741B787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19A8-4A80-4077-BB72-B893B39C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D030-9A5F-4F71-8E3B-473D7E17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4330-3702-42C0-9C5F-2A718518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7774-D331-4721-83B9-C37896F2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B935-D71C-40D9-B7F9-51F5EBB9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32B9-3928-40F4-8393-E508859A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BC6D-2C40-45E2-AAD1-8E55C522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2A19-C420-4E35-8C50-0D6BD508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37CA-822D-4E75-84C0-A446EDE4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303EC-7615-42E1-9CB4-0FEEC810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A8A8-409E-4BCA-8FD9-57F21B657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1FAD5-D896-4CFD-8AEF-AA89566FA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6D44-77A3-410E-8CE7-6AF93CF8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1A39-BA4D-4E8C-AA23-DB73E0A9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2B48-F833-4D0D-9284-D265FE39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4BE7-14C4-4AB2-8876-A90A1C4F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A0AB-7938-475A-98A8-479F861A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521D-9814-41B8-800A-B0231E8D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B738-6F6B-4244-A0D1-F28D6B32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203C-CD39-4F68-ABFB-1DBB728BDC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1FD1-FCA7-4A72-8412-72ED33B0FE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403280" y="1989000"/>
          <a:ext cx="6135840" cy="309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6135840" cy="30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9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NA Synthesis/Replic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0" t="2165" r="0" b="0"/>
          <a:stretch/>
        </p:blipFill>
        <p:spPr>
          <a:xfrm>
            <a:off x="1547640" y="1773360"/>
            <a:ext cx="5873760" cy="430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plication Proc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pening DNA double helix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itiating repl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nwinding duple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abilizing single stran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lieving torqu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uilding a prim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ssembling complementary strand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moving the prim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Joining Okazaki fragmen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ages of Replic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Initi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ways occurs at the same si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Elong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jority of replication spent in elong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Termin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act details uncle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rcRect l="24378" t="3331" r="25004" b="3331"/>
          <a:stretch/>
        </p:blipFill>
        <p:spPr>
          <a:xfrm>
            <a:off x="2362320" y="457200"/>
            <a:ext cx="4417920" cy="611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emical Nature of Nucleic Aci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6104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NA made up of </a:t>
            </a: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nucleic acid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ch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nucleotid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is composed of a five carbon sugar, a phosphate group, and an organic bas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cleotides distinguished by the 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emical Nature of Nucleic Aci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104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Purines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- large bas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enine and guan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Pyrimidines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- small bas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ytosine and thym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argaff’s r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= T  and  G = 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12502" t="2165" r="12502" b="0"/>
          <a:stretch/>
        </p:blipFill>
        <p:spPr>
          <a:xfrm>
            <a:off x="1332000" y="476280"/>
            <a:ext cx="655308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ree-Dimensional Structure of DN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988640"/>
            <a:ext cx="891540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X-ray diffraction suggested DNA had helical shape with a 2 nanometer diamete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Watson and Crick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deduced DNA is an inter-twined double helix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mentary base-pai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rines pairing with pyrimid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ant 2 nanometer diame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parallel configu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NA Double Helix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8752" t="2165" r="11250" b="0"/>
          <a:stretch/>
        </p:blipFill>
        <p:spPr>
          <a:xfrm>
            <a:off x="1979640" y="1844640"/>
            <a:ext cx="4464000" cy="409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d of 12.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2057400" y="2057400"/>
          <a:ext cx="5224320" cy="27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224320" cy="27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32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ukaryotic Chromosomal Organiz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16669" r="0" b="15000"/>
          <a:stretch/>
        </p:blipFill>
        <p:spPr>
          <a:xfrm>
            <a:off x="533520" y="1600200"/>
            <a:ext cx="8076960" cy="41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00:54:08Z</dcterms:created>
  <dc:creator>IBM</dc:creator>
  <dc:description/>
  <dc:language>en-US</dc:language>
  <cp:lastModifiedBy>ASB</cp:lastModifiedBy>
  <dcterms:modified xsi:type="dcterms:W3CDTF">2008-01-21T06:21:34Z</dcterms:modified>
  <cp:revision>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