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DE87-3CC6-4C6B-A134-D621F58DF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son and C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272-BA1D-44C5-8C70-246D0F65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0A8-B806-4362-9B32-E8626B65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09F-1606-45E0-9135-80B48850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7F3-0106-4D47-9999-8991D1DC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FB1D-0069-473A-8133-5C245D0C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736A-5EEF-4DC1-8651-AE1137A3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DCCE-DC4D-49E4-9251-8E00B1E9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7D69-6C39-437E-AD2A-D0BACB2C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83FD-DCA4-4A72-9D00-E78D1D92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FE5A-CE26-472C-A8D1-8A510C6F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DF9A-CDF1-42D3-9D8B-8FAE9101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BE9-89AE-40F9-9CA0-D9CEB3AF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F585-206C-4F86-BE19-A3725E1B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333C-4053-4D67-BEFE-14FC3860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D727-A03C-4448-98EC-CE0F400A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B5F5-0B20-407D-934D-B1771E9B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23CF-52AD-4C43-9145-5BF3259F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87E-191E-48EF-BC8B-0AFAF976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769-7A44-4DD5-AFED-6724B4AA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E97-770F-4378-9A61-FC0430DE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E62-41B5-4B72-AC1A-B793E4F1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DA9-4879-40D1-BB30-AFBE6BDB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C60-EA01-4319-8DA0-C9900F19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8CD-8E82-47E7-AA12-7F23AF56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A294-2F56-4C21-84CD-70131E4579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FDDF-3125-45F8-BC96-4E6F38D802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03280" y="1989000"/>
          <a:ext cx="6135840" cy="30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613584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A Synthesis/Re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2165" r="0" b="0"/>
          <a:stretch/>
        </p:blipFill>
        <p:spPr>
          <a:xfrm>
            <a:off x="1547640" y="1773360"/>
            <a:ext cx="5873760" cy="43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plication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pening DNA double heli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itiating re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winding duple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bilizing single stra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lieving torq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uilding a prim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ssembling complementary stran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moving the prim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oining Okazaki fragm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ges of Re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niti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ways occurs at the same s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jority of replication spent in elong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ermin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ct details uncl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24378" t="3331" r="25004" b="3331"/>
          <a:stretch/>
        </p:blipFill>
        <p:spPr>
          <a:xfrm>
            <a:off x="2362320" y="457200"/>
            <a:ext cx="4417920" cy="61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Nature of Nucleic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10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NA made up of </a:t>
            </a: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nucleic aci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nucleotid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composed of a five carbon sugar, a phosphate group, and an organic ba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otides distinguished by the 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Nature of Nucleic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104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urin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- large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enine and guan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yrimidin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- small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ytosine and thym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argaff’s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T  and  G =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2502" t="2165" r="12502" b="0"/>
          <a:stretch/>
        </p:blipFill>
        <p:spPr>
          <a:xfrm>
            <a:off x="1332000" y="476280"/>
            <a:ext cx="65530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ree-Dimensional Structure of D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8640"/>
            <a:ext cx="8915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X-ray diffraction suggested DNA had helical shape with a 2 nanometer diamet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Watson and Crick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educed DNA is an inter-twined double helix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mentary base-pai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ines pairing with pyrimid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ant 2 nanometer di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parallel 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A Double Heli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8752" t="2165" r="11250" b="0"/>
          <a:stretch/>
        </p:blipFill>
        <p:spPr>
          <a:xfrm>
            <a:off x="1979640" y="1844640"/>
            <a:ext cx="4464000" cy="409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d of 12.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057400" y="2057400"/>
          <a:ext cx="52243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2243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karyotic Chromosomal Organ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6669" r="0" b="15000"/>
          <a:stretch/>
        </p:blipFill>
        <p:spPr>
          <a:xfrm>
            <a:off x="533520" y="1600200"/>
            <a:ext cx="8076960" cy="41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0:54:08Z</dcterms:created>
  <dc:creator>IBM</dc:creator>
  <dc:description/>
  <dc:language>en-US</dc:language>
  <cp:lastModifiedBy>ASB</cp:lastModifiedBy>
  <dcterms:modified xsi:type="dcterms:W3CDTF">2008-01-21T06:21:34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