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8B9-423A-43E8-B0BD-B92BCA71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6C8-C962-45C7-96EF-1D915D80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A1F-A03C-4979-9985-7DB52F1D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197-9923-4BBC-8F31-CE8A247E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933A-DF75-48C8-BADC-0692093C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D390-FDAA-491E-B2C6-F3DFF072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AADB-8A82-4E94-8D65-5E08B85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3490-AB2F-4CAD-99C9-36AA0289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7F7C-BCB3-49EE-A9E2-5A0102B0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776F-5BC4-45BC-8545-71894F30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3CBF-26D1-4A4D-9A4D-61382DFA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F57-271C-478A-BEE8-6E4776D1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BB19-A0BF-4FEC-8FEB-C16DEFE5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4B1B-AC98-4220-B5A7-E48C391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2B6B-2EA7-4D9A-8888-77BB54BA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973B-0E2C-48B6-9608-8940C4C8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1657-6FE8-42C9-80C8-B413C07E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E72-31C0-44BA-8BCA-3714A5C4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F4D-FC3B-4712-9CE2-75053D7E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99C-3794-47F7-8DFD-36AB7E57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E6B-BC1A-40E1-95DD-B282C9C2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33F-B2C3-4808-97D9-1B3B7464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CE7-8A75-4D97-9DE1-77F9866A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FF9-291B-4C6C-8C1D-CB1EDB56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23C0-F4F3-48EA-9EB3-1D222FC100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D032-AFEE-47F8-90DC-D69088196A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3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NA and the Genetic Code</a:t>
            </a:r>
            <a:br>
              <a:rPr sz="6200"/>
            </a:b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gene one protein hypothe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AGATGATGCAGTAGCAA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NA Ed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331" r="0" b="10000"/>
          <a:stretch/>
        </p:blipFill>
        <p:spPr>
          <a:xfrm>
            <a:off x="1042920" y="1828800"/>
            <a:ext cx="6985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NA Co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392" r="0" b="15936"/>
          <a:stretch/>
        </p:blipFill>
        <p:spPr>
          <a:xfrm>
            <a:off x="324000" y="1125360"/>
            <a:ext cx="849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initiation complex forms, large ribosome subunit binds, exposing mRNA codon adjacent to the initiating codon, positioning it for interaction with another amino acid-bearing tRNA molec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rans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bosome moves nucleotides along mRNA molec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3339" r="0" b="23339"/>
          <a:stretch/>
        </p:blipFill>
        <p:spPr>
          <a:xfrm>
            <a:off x="838080" y="3429000"/>
            <a:ext cx="7315200" cy="2925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sense codons are recognized by release factors that release the newly made polypeptide from the ribos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18339" r="0" b="25000"/>
          <a:stretch/>
        </p:blipFill>
        <p:spPr>
          <a:xfrm>
            <a:off x="914400" y="3505320"/>
            <a:ext cx="7315200" cy="3108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-class.unl.edu/biochem/gp2/m_biology/animation/gene/gene_a3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ck this li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/W Section 12.3 Section Assess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fferent types of 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re are three different types of 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62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386240" cy="575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227664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ries the amino acid to the site for building prote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kes up parts of the ribosomes where protein synthesis takes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16440" y="0"/>
            <a:ext cx="522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ATTAAGCATCGATCGTAGCCATAGATCGATGCATCAGT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819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rt and Stop cod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GG universal start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AG, UGA, UAA stop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ly …. What is a codon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ral Dogma of Gene Ex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2496" r="0" b="0"/>
          <a:stretch/>
        </p:blipFill>
        <p:spPr>
          <a:xfrm>
            <a:off x="1371600" y="1371600"/>
            <a:ext cx="6324480" cy="46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5:10:42Z</dcterms:created>
  <dc:creator>IBM</dc:creator>
  <dc:description/>
  <dc:language>en-US</dc:language>
  <cp:lastModifiedBy>ASB</cp:lastModifiedBy>
  <dcterms:modified xsi:type="dcterms:W3CDTF">2008-01-28T00:52:26Z</dcterms:modified>
  <cp:revision>8</cp:revision>
  <dc:subject/>
  <dc:title>DNA and the Genetic Cod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