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90C-0472-4D50-947A-4223C08D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8FA-1657-4259-A420-5462AF1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BC8-2F2E-4B9D-BCF7-EFAFB0A7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043-530E-4DD3-89AB-9C42487D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36A-511E-480C-B366-08DEAF21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A60-74CB-4BB5-B637-D83E17D1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ED7-A542-4E81-9DB2-6737CE6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471A-853E-4FA3-B4AC-28ACFA9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76C-5DBB-4A9A-9549-BC91D639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2C8-6117-4615-99F8-625CF796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87B-CF15-4B2C-BDAF-0422357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429-1C03-4121-896C-E6D32B54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ADE-53D5-4339-A0E6-0801CE9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E88B-C7E2-40A1-B95B-5F12824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495F-9657-49C2-9B6F-D0A47916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0E78-ED46-442F-9153-03B40DFB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7ACD-5FBC-4369-8081-CBA41066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BF7-049D-4408-A41F-17DA9BE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B49-10E3-4F01-9E68-B74605A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7CE-5906-4F81-9D04-A5A948A6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9E5-AAD4-4858-AE1A-D884338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493-C37B-4FEE-A46B-B13DD00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12C-082A-4F65-BB4A-4C1D4E78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F9E-69BB-4124-B2BE-09F05FC4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711-3293-474F-A8BD-1168320F7E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3DAF-663B-4849-BA92-BA361C9299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NA and the Genetic Code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gene one protein hypothe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GATGATGCAGTAGCAA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NA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331" r="0" b="10000"/>
          <a:stretch/>
        </p:blipFill>
        <p:spPr>
          <a:xfrm>
            <a:off x="1042920" y="1828800"/>
            <a:ext cx="6985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NA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392" r="0" b="15936"/>
          <a:stretch/>
        </p:blipFill>
        <p:spPr>
          <a:xfrm>
            <a:off x="32400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initiation complex forms, large ribosome subunit binds, exposing mRNA codon adjacent to the initiating codon, positioning it for interaction with another amino acid-bearing tRNA molec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rans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bosome moves nucleotides along mRNA molec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3339" r="0" b="23339"/>
          <a:stretch/>
        </p:blipFill>
        <p:spPr>
          <a:xfrm>
            <a:off x="838080" y="3429000"/>
            <a:ext cx="7315200" cy="2925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ermin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sense codons are recognized by release factors that release the newly made polypeptide from the ribos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339" r="0" b="25000"/>
          <a:stretch/>
        </p:blipFill>
        <p:spPr>
          <a:xfrm>
            <a:off x="914400" y="3505320"/>
            <a:ext cx="7315200" cy="310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la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-class.unl.edu/biochem/gp2/m_biology/animation/gene/gene_a3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ck this l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/W Section 12.3 Section Assess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fferent types of 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three different types of 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62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386240" cy="57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27664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ries the amino acid to the site for building prote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s up parts of the ribosomes where protein synthesis takes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16440" y="0"/>
            <a:ext cx="52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ATTAAGCATCGATCGTAGCCATAGATCGATGCATCAGT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cription Ani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rt and Stop cod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GG universal start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AG, UGA, UAA stop cod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ly …. What is a codon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ral Dogma of Gene Ex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2496" r="0" b="0"/>
          <a:stretch/>
        </p:blipFill>
        <p:spPr>
          <a:xfrm>
            <a:off x="1371600" y="1371600"/>
            <a:ext cx="632448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5:10:42Z</dcterms:created>
  <dc:creator>IBM</dc:creator>
  <dc:description/>
  <dc:language>en-US</dc:language>
  <cp:lastModifiedBy>ASB</cp:lastModifiedBy>
  <dcterms:modified xsi:type="dcterms:W3CDTF">2008-01-28T00:52:26Z</dcterms:modified>
  <cp:revision>8</cp:revision>
  <dc:subject/>
  <dc:title>DNA and the Genetic Cod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