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CD9D-1EA1-4E9B-A988-F4ED4C346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son and C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CA2-FADD-47F7-9419-1715BDE7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ECC-7511-4784-9024-4B1BD37E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972-9066-429E-BBFB-462C69E2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8C1-E42E-4BFD-93A2-D26F83CF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DC80-D29E-4FF1-882A-B67AFB58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D95D-6C78-45F6-A7E4-D4AD3460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A0CC-BCA6-4B0E-86B1-2AFAD000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BC6A-5A62-46D7-9DFF-25836056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4928-86DE-4716-9028-D5297669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0794-A564-4ED3-BCDA-E0205DF6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792B-9B02-49DD-9220-1CD30D57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EAA-0AF1-4A21-9D54-CA249B67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1684-EB30-47BA-AAB4-43D7AA9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DDCF-2FE6-40DC-870B-D7CEA782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78BF-9DE4-42A1-BA3C-F94D404C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92A9-A22B-4C66-BEA5-327DBC5D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7B09-20CA-4BCB-8811-A6F8F6B4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CFE-EDBB-43D1-BC02-2A3D51EC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299-D578-4DE4-A900-9C1FE077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404-BC45-4EC3-8CF9-888C397F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D18-0C04-4D4B-8CEA-8F66751D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0D7-DD4B-472B-B7C8-2F81AB9A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345-32EE-43B9-B8F9-C26AD280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E7E-58B9-4731-8276-CD4F7192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3BB0-9F09-464B-B6F1-EF98CC0BE1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E446-52F0-431F-95BF-AA363BBDD9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03280" y="1989000"/>
          <a:ext cx="6135840" cy="30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613584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A Synthesis/Re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2165" r="0" b="0"/>
          <a:stretch/>
        </p:blipFill>
        <p:spPr>
          <a:xfrm>
            <a:off x="1547640" y="1773360"/>
            <a:ext cx="5873760" cy="43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plication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pening DNA double heli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itiating re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winding duple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bilizing single stra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lieving torq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ilding a prim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ssembling complementary stran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moving the prim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oining Okazaki fragm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ges of Re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niti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ways occurs at the same s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jority of replication spent in elong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ermin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ct details uncl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24378" t="3331" r="25004" b="3331"/>
          <a:stretch/>
        </p:blipFill>
        <p:spPr>
          <a:xfrm>
            <a:off x="2362320" y="457200"/>
            <a:ext cx="4417920" cy="61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Nature of Nucleic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10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NA made up of </a:t>
            </a: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nucleic aci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nucleotid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composed of a five carbon sugar, a phosphate group, and an organic ba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otides distinguished by the 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Nature of Nucleic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104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urin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- large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enine and guan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yrimidin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- small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ytosine and thym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rgaff’s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T  and  G =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2502" t="2165" r="12502" b="0"/>
          <a:stretch/>
        </p:blipFill>
        <p:spPr>
          <a:xfrm>
            <a:off x="1332000" y="476280"/>
            <a:ext cx="65530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ree-Dimensional Structure of D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8640"/>
            <a:ext cx="8915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X-ray diffraction suggested DNA had helical shape with a 2 nanometer diamet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Watson and Crick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educed DNA is an inter-twined double helix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mentary base-pai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ines pairing with pyrimid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ant 2 nanometer di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parallel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A Double Heli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8752" t="2165" r="11250" b="0"/>
          <a:stretch/>
        </p:blipFill>
        <p:spPr>
          <a:xfrm>
            <a:off x="1979640" y="1844640"/>
            <a:ext cx="4464000" cy="409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 of 12.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057400" y="2057400"/>
          <a:ext cx="52243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2243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karyotic Chromosomal Organ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6669" r="0" b="15000"/>
          <a:stretch/>
        </p:blipFill>
        <p:spPr>
          <a:xfrm>
            <a:off x="533520" y="1600200"/>
            <a:ext cx="8076960" cy="41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0:54:08Z</dcterms:created>
  <dc:creator>IBM</dc:creator>
  <dc:description/>
  <dc:language>en-US</dc:language>
  <cp:lastModifiedBy>ASB</cp:lastModifiedBy>
  <dcterms:modified xsi:type="dcterms:W3CDTF">2008-01-21T06:21:34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