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057-F4C8-4076-B52D-DDEE1E1B0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son and C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EC4-F702-43F6-8208-815E46B1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CAB-8214-4FCD-88F0-87264A38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572-C3F8-47CF-94A7-E160E3F2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4F7-61D3-44E3-A012-C3A6007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7525-FBBD-4AC8-B7BE-25274E31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4BB-B297-4B5C-ACD5-37B452A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E10-65FF-4B09-A982-02EFF1E4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9CCC-5810-432A-AC0C-0421DEB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B7B5-FF64-4613-B042-6E589DD3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A03-B210-459D-8B10-91C6BE98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C0D-4CD9-450C-97C6-85D700F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03F-E063-41D6-96BC-F17F2C6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B83-7A0F-448D-B745-8D6B7BB0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0CC-1C81-4B72-9DC9-F0939D7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E56-EF6F-411E-BE05-F48668B1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7CA4-802F-4529-9255-69295F49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B99-8E88-41A2-9D76-AC5DF20E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2BA-0202-47F1-BF30-2AF1A2BF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690-1602-451C-9D06-AC0890DF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E8C-CDED-4CD6-AF7A-38220CB0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2D7-30E8-40AA-BAAC-B450FD3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DFA-73FF-4415-8995-4A72103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DBE-BC33-4480-9535-27A8FF2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102-0037-4802-A735-67A8EF1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333C-6A8A-406A-80E1-71F9C24376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1975-F694-4A2D-BF7D-D7856C405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3280" y="1989000"/>
          <a:ext cx="613584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1358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Synthesis/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2165" r="0" b="0"/>
          <a:stretch/>
        </p:blipFill>
        <p:spPr>
          <a:xfrm>
            <a:off x="1547640" y="1773360"/>
            <a:ext cx="5873760" cy="43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ication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ning DNA double hel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ng re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winding duple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bilizing single str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eving tor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ilding a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sembling complementary str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oving the prim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ining Okazaki frag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of Re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Initi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ways occurs at the same 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replication spent in elon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ct details uncl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378" t="3331" r="25004" b="3331"/>
          <a:stretch/>
        </p:blipFill>
        <p:spPr>
          <a:xfrm>
            <a:off x="2362320" y="457200"/>
            <a:ext cx="4417920" cy="61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10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NA made up of </a:t>
            </a: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nucleic aci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ucleotid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composed of a five carbon sugar, a phosphate group, and an organic 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tides distinguished by the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Nature of Nucleic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ur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large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enine and guan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Pyrimidin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- small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tosine and thym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aff’s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T  and  G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2502" t="2165" r="12502" b="0"/>
          <a:stretch/>
        </p:blipFill>
        <p:spPr>
          <a:xfrm>
            <a:off x="1332000" y="476280"/>
            <a:ext cx="6553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ree-Dimensional Structure of D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8640"/>
            <a:ext cx="89154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X-ray diffraction suggested DNA had helical shape with a 2 nanometer diamet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atson and Cric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duced DNA is an inter-twined double helix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mentary base-pa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ines pairing with pyrimid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 2 nanometer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arallel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A Double Heli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8752" t="2165" r="11250" b="0"/>
          <a:stretch/>
        </p:blipFill>
        <p:spPr>
          <a:xfrm>
            <a:off x="1979640" y="1844640"/>
            <a:ext cx="4464000" cy="409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 of 12.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057400" y="2057400"/>
          <a:ext cx="52243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2243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karyotic Chromosomal Org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6669" r="0" b="15000"/>
          <a:stretch/>
        </p:blipFill>
        <p:spPr>
          <a:xfrm>
            <a:off x="533520" y="1600200"/>
            <a:ext cx="807696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54:08Z</dcterms:created>
  <dc:creator>IBM</dc:creator>
  <dc:description/>
  <dc:language>en-US</dc:language>
  <cp:lastModifiedBy>ASB</cp:lastModifiedBy>
  <dcterms:modified xsi:type="dcterms:W3CDTF">2008-01-21T06:21:3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