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8129588" cy="60991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76733-33CE-44E8-BE6B-70B5F7321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7"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8"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C9B20-4356-4A0F-A539-989815DD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0"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2"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3"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5D023-B06C-42FD-972E-90F4E335C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5"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6"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7"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8"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9"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80"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EB20E-5723-4CAB-958F-2E82471F0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FF2AF-A67B-41C6-AB79-71DB5E897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7"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92476-BF9B-4856-866E-467F012E3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9"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47EE8-B485-4FD9-9F3F-3D9C180C5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1"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2"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0A80C-ABFD-4B30-9745-060E7747A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F28F3-58A8-4E2E-BDDB-D1C430F0B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39CF7-B9CA-4535-8B15-7F1A92A08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6"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7"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8"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0D230-870B-45F6-BA40-CB5580864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6"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42566-72EC-4E92-AA52-C341D64F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2"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52248-831F-43D9-90F2-54095F24C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4"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5"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6"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97F7-2245-4522-A9EB-DEEA8FE35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8"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9"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00D44-141B-41F1-B6EF-AF7951F2B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1"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2"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3"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4"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37537-6D04-4AB5-A76E-6085A8886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6"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7"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8"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9"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0"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1"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84D2F-AB2B-4493-9DDB-B9643DD0C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AD58C-C969-4560-A573-44DC34B4C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1"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B5E0-D08F-4D95-B91C-254B35420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0063-0EE3-4B7A-B2F2-55516C8D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95EE7-7C72-4370-A540-D5AE9172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5"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6"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7"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963C-5BD7-48A1-A2A6-D7CF5024D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9"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0"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1"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6233-8214-4B22-A6A0-732B30020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3"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4"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5"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E8FB-38DA-416F-A156-79587B8B5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8129160" cy="6097320"/>
            <a:chOff x="0" y="0"/>
            <a:chExt cx="8129160" cy="6097320"/>
          </a:xfrm>
        </p:grpSpPr>
        <p:sp>
          <p:nvSpPr>
            <p:cNvPr id="1"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304000"/>
              <a:ext cx="8126280" cy="2622600"/>
              <a:chOff x="0" y="2304000"/>
              <a:chExt cx="8126280" cy="2622600"/>
            </a:xfrm>
          </p:grpSpPr>
          <p:sp>
            <p:nvSpPr>
              <p:cNvPr id="38"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1"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PlaceHolder 3"/>
          <p:cNvSpPr>
            <a:spLocks noGrp="1"/>
          </p:cNvSpPr>
          <p:nvPr>
            <p:ph type="dt" idx="1"/>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F94B-7869-435E-98D5-AC58066301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8129160" cy="6097320"/>
            <a:chOff x="0" y="0"/>
            <a:chExt cx="8129160" cy="6097320"/>
          </a:xfrm>
        </p:grpSpPr>
        <p:sp>
          <p:nvSpPr>
            <p:cNvPr id="82"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304000"/>
              <a:ext cx="8126280" cy="2622600"/>
              <a:chOff x="0" y="2304000"/>
              <a:chExt cx="8126280" cy="2622600"/>
            </a:xfrm>
          </p:grpSpPr>
          <p:sp>
            <p:nvSpPr>
              <p:cNvPr id="119"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2"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PlaceHolder 3"/>
          <p:cNvSpPr>
            <a:spLocks noGrp="1"/>
          </p:cNvSpPr>
          <p:nvPr>
            <p:ph type="dt" idx="4"/>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E893-F594-4296-8BF3-A99274C9BD0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phschool.com/"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phschool.com/" TargetMode="External"/><Relationship Id="rId2" Type="http://schemas.openxmlformats.org/officeDocument/2006/relationships/hyperlink" Target="http://www.phscho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8426AA1A-38B5-429B-BE09-95BD87635A65}"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8-1 Energy and Life</a:t>
            </a:r>
            <a:endParaRPr b="0" lang="en-US" sz="3900" spc="-1" strike="noStrike">
              <a:solidFill>
                <a:srgbClr val="ffffff"/>
              </a:solidFill>
              <a:latin typeface="Arial"/>
            </a:endParaRPr>
          </a:p>
        </p:txBody>
      </p:sp>
      <p:sp>
        <p:nvSpPr>
          <p:cNvPr id="164" name="PlaceHolder 2"/>
          <p:cNvSpPr>
            <a:spLocks noGrp="1"/>
          </p:cNvSpPr>
          <p:nvPr>
            <p:ph/>
          </p:nvPr>
        </p:nvSpPr>
        <p:spPr>
          <a:xfrm>
            <a:off x="406440" y="1422360"/>
            <a:ext cx="7392960" cy="3532320"/>
          </a:xfrm>
          <a:prstGeom prst="rect">
            <a:avLst/>
          </a:prstGeom>
          <a:noFill/>
          <a:ln w="0">
            <a:noFill/>
          </a:ln>
        </p:spPr>
        <p:txBody>
          <a:bodyPr lIns="81360" rIns="81360" tIns="40680" bIns="40680" anchor="t">
            <a:normAutofit/>
          </a:bodyPr>
          <a:p>
            <a:pPr marL="304920" indent="-304920">
              <a:spcBef>
                <a:spcPts val="601"/>
              </a:spcBef>
              <a:buSzPct val="107944"/>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ivide into small groups and think of 10 living things in each group.  Classify each organism as heterotroph or autotroph.  Which animals can you think of that are difficult to classify?</a:t>
            </a:r>
            <a:endParaRPr b="0" lang="en-US" sz="2400" spc="-1" strike="noStrike">
              <a:solidFill>
                <a:srgbClr val="ffffff"/>
              </a:solidFill>
              <a:latin typeface="Arial"/>
            </a:endParaRPr>
          </a:p>
          <a:p>
            <a:pPr marL="304920" indent="-304920">
              <a:spcBef>
                <a:spcPts val="601"/>
              </a:spcBef>
              <a:buSzPct val="107944"/>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u="sng">
                <a:solidFill>
                  <a:srgbClr val="86d1ec"/>
                </a:solidFill>
                <a:uFillTx/>
                <a:latin typeface="Arial"/>
                <a:hlinkClick r:id="rId3"/>
              </a:rPr>
              <a:t>WWW.PHSchool.com</a:t>
            </a:r>
            <a:endParaRPr b="0" lang="en-US" sz="2400" spc="-1" strike="noStrike">
              <a:solidFill>
                <a:srgbClr val="ffffff"/>
              </a:solidFill>
              <a:latin typeface="Arial"/>
            </a:endParaRPr>
          </a:p>
          <a:p>
            <a:pPr marL="304920" indent="-304920">
              <a:spcBef>
                <a:spcPts val="601"/>
              </a:spcBef>
              <a:buSzPct val="107944"/>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BD-3081</a:t>
            </a:r>
            <a:endParaRPr b="0" lang="en-US" sz="2400" spc="-1" strike="noStrike">
              <a:solidFill>
                <a:srgbClr val="ffffff"/>
              </a:solidFill>
              <a:latin typeface="Arial"/>
            </a:endParaRPr>
          </a:p>
          <a:p>
            <a:pPr marL="304920" indent="-304920">
              <a:spcBef>
                <a:spcPts val="601"/>
              </a:spcBef>
              <a:buSzPct val="107944"/>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o questions section 8-1</a:t>
            </a:r>
            <a:endParaRPr b="0" lang="en-US" sz="2400" spc="-1" strike="noStrike">
              <a:solidFill>
                <a:srgbClr val="ffffff"/>
              </a:solidFill>
              <a:latin typeface="Arial"/>
            </a:endParaRPr>
          </a:p>
          <a:p>
            <a:pPr marL="304920" indent="0">
              <a:spcBef>
                <a:spcPts val="601"/>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 dur="5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2" dur="500"/>
                                        <p:tgtEl>
                                          <p:spTgt spid="1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7" dur="500"/>
                                        <p:tgtEl>
                                          <p:spTgt spid="164">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0" dur="500"/>
                                        <p:tgtEl>
                                          <p:spTgt spid="164">
                                            <p:txEl>
                                              <p:pRg st="4" end="4"/>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3" dur="500"/>
                                        <p:tgtEl>
                                          <p:spTgt spid="164">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2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7ECAE27E-E569-4AD0-A5B8-9F6113D83381}"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500" spc="-1" strike="noStrike" u="sng">
                <a:solidFill>
                  <a:srgbClr val="86d1ec"/>
                </a:solidFill>
                <a:uFillTx/>
                <a:latin typeface="Arial"/>
                <a:hlinkClick r:id="rId1"/>
              </a:rPr>
              <a:t>www.PHSchool.com</a:t>
            </a:r>
            <a:br>
              <a:rPr sz="3500"/>
            </a:br>
            <a:r>
              <a:rPr b="0" lang="en-US" sz="3500" spc="-1" strike="noStrike">
                <a:solidFill>
                  <a:srgbClr val="ffffff"/>
                </a:solidFill>
                <a:latin typeface="Arial"/>
              </a:rPr>
              <a:t>cbp-3083</a:t>
            </a:r>
            <a:endParaRPr b="0" lang="en-US" sz="3500" spc="-1" strike="noStrike">
              <a:solidFill>
                <a:srgbClr val="ffffff"/>
              </a:solidFill>
              <a:latin typeface="Arial"/>
            </a:endParaRPr>
          </a:p>
        </p:txBody>
      </p:sp>
      <p:sp>
        <p:nvSpPr>
          <p:cNvPr id="189" name="Text Box 5"/>
          <p:cNvSpPr/>
          <p:nvPr/>
        </p:nvSpPr>
        <p:spPr>
          <a:xfrm>
            <a:off x="1779480" y="2516040"/>
            <a:ext cx="46483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2"/>
              </a:rPr>
              <a:t>www.PHSchool.com</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bp-308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89FD805F-06B3-4113-97AD-4B24CB685AA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67"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Lab Set up. (10 minutes) quick lab p. 2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DE5D0192-B47A-4A77-98F3-EA049F165FD1}"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0" name="PlaceHolder 1"/>
          <p:cNvSpPr>
            <a:spLocks noGrp="1"/>
          </p:cNvSpPr>
          <p:nvPr>
            <p:ph type="title"/>
          </p:nvPr>
        </p:nvSpPr>
        <p:spPr>
          <a:xfrm>
            <a:off x="407520" y="-227520"/>
            <a:ext cx="7317000" cy="101628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pic>
        <p:nvPicPr>
          <p:cNvPr id="171" name="Picture 5" descr="photosynthesis"/>
          <p:cNvPicPr/>
          <p:nvPr/>
        </p:nvPicPr>
        <p:blipFill>
          <a:blip r:embed="rId1"/>
          <a:stretch/>
        </p:blipFill>
        <p:spPr>
          <a:xfrm>
            <a:off x="1368360" y="534960"/>
            <a:ext cx="4678560" cy="55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522FA4C1-C7C0-42BA-AB61-E6B8C212EEF0}"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sp>
        <p:nvSpPr>
          <p:cNvPr id="174"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pic>
        <p:nvPicPr>
          <p:cNvPr id="175" name="Picture 5" descr="equation_photosynthesis"/>
          <p:cNvPicPr/>
          <p:nvPr/>
        </p:nvPicPr>
        <p:blipFill>
          <a:blip r:embed="rId1"/>
          <a:stretch/>
        </p:blipFill>
        <p:spPr>
          <a:xfrm>
            <a:off x="331920" y="1220760"/>
            <a:ext cx="7391160" cy="48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6DB8CD32-30CD-40F1-BB21-7DB417D6EACD}"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7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Quick Lab Result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What do you see?</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do you know what it i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can we prove it? (glowing stick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86A1CD26-14E6-4485-8B06-4F21F50EE133}"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1" name="PlaceHolder 1"/>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Please Complete Section Assessment 8-2 on page 2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5:13:26Z</dcterms:created>
  <dc:creator>Stacy - McGraw-Hill Higher Education</dc:creator>
  <dc:description/>
  <dc:language>en-US</dc:language>
  <cp:lastModifiedBy>IBM</cp:lastModifiedBy>
  <dcterms:modified xsi:type="dcterms:W3CDTF">2007-10-03T02:20:09Z</dcterms:modified>
  <cp:revision>21</cp:revision>
  <dc:subject/>
  <dc:title>PowerPoint Presentation</dc:title>
</cp:coreProperties>
</file>