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8129588" cy="6099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37DCF-DC14-457A-9DF9-501B9A087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7"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8"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7DA02-0C9A-48D5-943E-ED39137C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0"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2"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3"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D7D1E-6EDA-4C7B-A1B5-1E99187EE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5"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6"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7"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8"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9"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80"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55974-2E3C-4097-AB91-E9895A5A1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00153-9A9A-479D-BA2C-1D1D038D9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7"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BCC58-7C64-450C-9422-D9542FC7D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9"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925D1-749C-4677-B7F9-E9F5802A3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1"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2"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5FFA1-C990-4CBC-802E-D9A420D1F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7FE0B-9A54-47F0-941F-05E2C76F1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6C321-6953-4BB9-AEE7-09A8471A3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6"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7"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8"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688E0-7C9C-4270-9FC2-B2B9C0B73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6"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0A82-A052-4786-885F-CA47B4DF9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2"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DEF50-95FC-4FA7-8FB9-90E12B892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4"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5"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6"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436E0-B3C2-4B43-B61C-034C0B235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8"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9"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3AFBF-FB27-400B-8612-CD3CED00A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1"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2"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3"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4"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E6E0E-3E25-457E-B685-D85D6865C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6"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7"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8"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9"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0"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1"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D6C81-B04D-4D64-AD2B-B53F37B41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B479B-E09C-4C94-923C-0F23ACC40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1"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DB057-E143-4C03-8FE5-578578C3E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9C42-E40F-46A2-AE65-CEAF8DBD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F76C-D405-47A3-85E4-B0C61871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5"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6"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7"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7C80-DC15-4CC8-94C9-9C4880BA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9"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0"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1"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FD08-AFC3-48B4-8DD3-2D318C46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3"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4"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5"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2131-35A9-4D95-BD30-2DFCD3229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8129160" cy="6097320"/>
            <a:chOff x="0" y="0"/>
            <a:chExt cx="8129160" cy="6097320"/>
          </a:xfrm>
        </p:grpSpPr>
        <p:sp>
          <p:nvSpPr>
            <p:cNvPr id="1"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304000"/>
              <a:ext cx="8126280" cy="2622600"/>
              <a:chOff x="0" y="2304000"/>
              <a:chExt cx="8126280" cy="2622600"/>
            </a:xfrm>
          </p:grpSpPr>
          <p:sp>
            <p:nvSpPr>
              <p:cNvPr id="38"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1"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PlaceHolder 3"/>
          <p:cNvSpPr>
            <a:spLocks noGrp="1"/>
          </p:cNvSpPr>
          <p:nvPr>
            <p:ph type="dt" idx="1"/>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DDE5-D787-49C4-A731-93F9E8A676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8129160" cy="6097320"/>
            <a:chOff x="0" y="0"/>
            <a:chExt cx="8129160" cy="6097320"/>
          </a:xfrm>
        </p:grpSpPr>
        <p:sp>
          <p:nvSpPr>
            <p:cNvPr id="82"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304000"/>
              <a:ext cx="8126280" cy="2622600"/>
              <a:chOff x="0" y="2304000"/>
              <a:chExt cx="8126280" cy="2622600"/>
            </a:xfrm>
          </p:grpSpPr>
          <p:sp>
            <p:nvSpPr>
              <p:cNvPr id="119"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2"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PlaceHolder 3"/>
          <p:cNvSpPr>
            <a:spLocks noGrp="1"/>
          </p:cNvSpPr>
          <p:nvPr>
            <p:ph type="dt" idx="4"/>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89A2-0C86-4CF4-A348-9E015F32D7A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phschool.com/"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phschool.com/" TargetMode="External"/><Relationship Id="rId2" Type="http://schemas.openxmlformats.org/officeDocument/2006/relationships/hyperlink" Target="http://www.phscho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B75530A0-3F47-48C2-99B2-071834FF6859}"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8-1 Energy and Life</a:t>
            </a:r>
            <a:endParaRPr b="0" lang="en-US" sz="3900" spc="-1" strike="noStrike">
              <a:solidFill>
                <a:srgbClr val="ffffff"/>
              </a:solidFill>
              <a:latin typeface="Arial"/>
            </a:endParaRPr>
          </a:p>
        </p:txBody>
      </p:sp>
      <p:sp>
        <p:nvSpPr>
          <p:cNvPr id="164" name="PlaceHolder 2"/>
          <p:cNvSpPr>
            <a:spLocks noGrp="1"/>
          </p:cNvSpPr>
          <p:nvPr>
            <p:ph/>
          </p:nvPr>
        </p:nvSpPr>
        <p:spPr>
          <a:xfrm>
            <a:off x="406440" y="1422360"/>
            <a:ext cx="7392960" cy="3532320"/>
          </a:xfrm>
          <a:prstGeom prst="rect">
            <a:avLst/>
          </a:prstGeom>
          <a:noFill/>
          <a:ln w="0">
            <a:noFill/>
          </a:ln>
        </p:spPr>
        <p:txBody>
          <a:bodyPr lIns="81360" rIns="81360" tIns="40680" bIns="40680" anchor="t">
            <a:normAutofit/>
          </a:bodyPr>
          <a:p>
            <a:pPr marL="304920" indent="-304920">
              <a:spcBef>
                <a:spcPts val="601"/>
              </a:spcBef>
              <a:buSzPct val="107944"/>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ivide into small groups and think of 10 living things in each group.  Classify each organism as heterotroph or autotroph.  Which animals can you think of that are difficult to classify?</a:t>
            </a:r>
            <a:endParaRPr b="0" lang="en-US" sz="2400" spc="-1" strike="noStrike">
              <a:solidFill>
                <a:srgbClr val="ffffff"/>
              </a:solidFill>
              <a:latin typeface="Arial"/>
            </a:endParaRPr>
          </a:p>
          <a:p>
            <a:pPr marL="304920" indent="-304920">
              <a:spcBef>
                <a:spcPts val="601"/>
              </a:spcBef>
              <a:buSzPct val="107944"/>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u="sng">
                <a:solidFill>
                  <a:srgbClr val="86d1ec"/>
                </a:solidFill>
                <a:uFillTx/>
                <a:latin typeface="Arial"/>
                <a:hlinkClick r:id="rId3"/>
              </a:rPr>
              <a:t>WWW.PHSchool.com</a:t>
            </a:r>
            <a:endParaRPr b="0" lang="en-US" sz="2400" spc="-1" strike="noStrike">
              <a:solidFill>
                <a:srgbClr val="ffffff"/>
              </a:solidFill>
              <a:latin typeface="Arial"/>
            </a:endParaRPr>
          </a:p>
          <a:p>
            <a:pPr marL="304920" indent="-304920">
              <a:spcBef>
                <a:spcPts val="601"/>
              </a:spcBef>
              <a:buSzPct val="107944"/>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BD-3081</a:t>
            </a:r>
            <a:endParaRPr b="0" lang="en-US" sz="2400" spc="-1" strike="noStrike">
              <a:solidFill>
                <a:srgbClr val="ffffff"/>
              </a:solidFill>
              <a:latin typeface="Arial"/>
            </a:endParaRPr>
          </a:p>
          <a:p>
            <a:pPr marL="304920" indent="-304920">
              <a:spcBef>
                <a:spcPts val="601"/>
              </a:spcBef>
              <a:buSzPct val="107944"/>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o questions section 8-1</a:t>
            </a:r>
            <a:endParaRPr b="0" lang="en-US" sz="2400" spc="-1" strike="noStrike">
              <a:solidFill>
                <a:srgbClr val="ffffff"/>
              </a:solidFill>
              <a:latin typeface="Arial"/>
            </a:endParaRPr>
          </a:p>
          <a:p>
            <a:pPr marL="304920" indent="0">
              <a:spcBef>
                <a:spcPts val="601"/>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 dur="5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7" dur="500"/>
                                        <p:tgtEl>
                                          <p:spTgt spid="164">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0" dur="500"/>
                                        <p:tgtEl>
                                          <p:spTgt spid="164">
                                            <p:txEl>
                                              <p:pRg st="4" end="4"/>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3" dur="500"/>
                                        <p:tgtEl>
                                          <p:spTgt spid="16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36996BD4-76BE-4E58-B7B2-2466BDCB11D4}"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500" spc="-1" strike="noStrike" u="sng">
                <a:solidFill>
                  <a:srgbClr val="86d1ec"/>
                </a:solidFill>
                <a:uFillTx/>
                <a:latin typeface="Arial"/>
                <a:hlinkClick r:id="rId1"/>
              </a:rPr>
              <a:t>www.PHSchool.com</a:t>
            </a:r>
            <a:br>
              <a:rPr sz="3500"/>
            </a:br>
            <a:r>
              <a:rPr b="0" lang="en-US" sz="3500" spc="-1" strike="noStrike">
                <a:solidFill>
                  <a:srgbClr val="ffffff"/>
                </a:solidFill>
                <a:latin typeface="Arial"/>
              </a:rPr>
              <a:t>cbp-3083</a:t>
            </a:r>
            <a:endParaRPr b="0" lang="en-US" sz="3500" spc="-1" strike="noStrike">
              <a:solidFill>
                <a:srgbClr val="ffffff"/>
              </a:solidFill>
              <a:latin typeface="Arial"/>
            </a:endParaRPr>
          </a:p>
        </p:txBody>
      </p:sp>
      <p:sp>
        <p:nvSpPr>
          <p:cNvPr id="189" name="Text Box 5"/>
          <p:cNvSpPr/>
          <p:nvPr/>
        </p:nvSpPr>
        <p:spPr>
          <a:xfrm>
            <a:off x="1779480" y="2516040"/>
            <a:ext cx="46483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2"/>
              </a:rPr>
              <a:t>www.PHSchool.com</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bp-308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1E13AD08-4603-4C62-994D-DC4A5F20BCBB}"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67"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Lab Set up. (10 minutes) quick lab p. 2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F902AC20-C46E-47D6-8232-741C741FB847}"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0" name="PlaceHolder 1"/>
          <p:cNvSpPr>
            <a:spLocks noGrp="1"/>
          </p:cNvSpPr>
          <p:nvPr>
            <p:ph type="title"/>
          </p:nvPr>
        </p:nvSpPr>
        <p:spPr>
          <a:xfrm>
            <a:off x="407520" y="-227520"/>
            <a:ext cx="7317000" cy="101628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pic>
        <p:nvPicPr>
          <p:cNvPr id="171" name="Picture 5" descr="photosynthesis"/>
          <p:cNvPicPr/>
          <p:nvPr/>
        </p:nvPicPr>
        <p:blipFill>
          <a:blip r:embed="rId1"/>
          <a:stretch/>
        </p:blipFill>
        <p:spPr>
          <a:xfrm>
            <a:off x="1368360" y="534960"/>
            <a:ext cx="4678560" cy="55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0E27565B-7846-4A00-A019-B63463507CB7}"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sp>
        <p:nvSpPr>
          <p:cNvPr id="174"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pic>
        <p:nvPicPr>
          <p:cNvPr id="175" name="Picture 5" descr="equation_photosynthesis"/>
          <p:cNvPicPr/>
          <p:nvPr/>
        </p:nvPicPr>
        <p:blipFill>
          <a:blip r:embed="rId1"/>
          <a:stretch/>
        </p:blipFill>
        <p:spPr>
          <a:xfrm>
            <a:off x="331920" y="1220760"/>
            <a:ext cx="7391160" cy="48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6CE785B9-1B9B-45FB-BB91-B7979C58EED3}"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7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Quick Lab Result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What do you see?</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do you know what it i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can we prove it? (glowing stick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92CE7FEB-CA6E-45E6-9B98-7ACA9E640F81}"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1" name="PlaceHolder 1"/>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Please Complete Section Assessment 8-2 on page 2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5:13:26Z</dcterms:created>
  <dc:creator>Stacy - McGraw-Hill Higher Education</dc:creator>
  <dc:description/>
  <dc:language>en-US</dc:language>
  <cp:lastModifiedBy>IBM</cp:lastModifiedBy>
  <dcterms:modified xsi:type="dcterms:W3CDTF">2007-10-03T02:20:09Z</dcterms:modified>
  <cp:revision>21</cp:revision>
  <dc:subject/>
  <dc:title>PowerPoint Presentation</dc:title>
</cp:coreProperties>
</file>