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8129588" cy="6099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B456D-1B53-4ABC-AB72-CA0A413D9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7"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8"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ADE64-BFF9-4C1F-A01B-CFA9EC73B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0"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2"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3"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727E4-FACE-4023-A7D7-9B9DCBAE3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5"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6"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7"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8"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9"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80"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F64ED-72D9-4DDF-8679-64126D887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F3138-8D00-43E1-BB82-1EE833C5E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7"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0C04C-E409-4F7F-8854-759311200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9"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EB09C-3815-4554-90DF-DFE7DFEF5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1"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2"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ABD5F-473E-4810-A139-0EF1D9D0D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A085C-75EB-4D59-81E6-89EB61407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63ECE-4D8D-429A-AFF4-F10BC45BC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6"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7"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8"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287B0-F440-4774-B4B8-E0CBEB5FC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6"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12CF-297D-4CD4-BAE7-9EBEE785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2"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A5189-6761-479A-8F1B-0F51E108D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4"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5"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6"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387D0-E242-43BC-874B-A2516504D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8"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9"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1AD17-5A4C-48BD-A0B2-404D0F2AE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1"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2"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3"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4"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0BF6D-75FD-4570-A6CA-AA0DE1BBE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6"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7"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8"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9"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0"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1"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C1E6F-655D-426C-ACC5-BB637B222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CA04F-85A9-4807-A2B7-F751C8A38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1"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44AF7-372C-4659-93B1-6D64EF8A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5E6C3-322C-4DE5-AE3C-BE27E8EE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C82A-9A4B-4775-A495-839DB9E1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5"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6"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7"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FA04-05CC-4C0C-A6B2-6EDD03FF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9"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0"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1"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09C1-2396-44C4-A52B-AE8C72BF7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3"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4"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5"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8C7F-F137-446A-B069-E89823259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8129160" cy="6097320"/>
            <a:chOff x="0" y="0"/>
            <a:chExt cx="8129160" cy="6097320"/>
          </a:xfrm>
        </p:grpSpPr>
        <p:sp>
          <p:nvSpPr>
            <p:cNvPr id="1"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304000"/>
              <a:ext cx="8126280" cy="2622600"/>
              <a:chOff x="0" y="2304000"/>
              <a:chExt cx="8126280" cy="2622600"/>
            </a:xfrm>
          </p:grpSpPr>
          <p:sp>
            <p:nvSpPr>
              <p:cNvPr id="38"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1"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PlaceHolder 3"/>
          <p:cNvSpPr>
            <a:spLocks noGrp="1"/>
          </p:cNvSpPr>
          <p:nvPr>
            <p:ph type="dt" idx="1"/>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ACDE-9170-4228-9BAA-54AB9F2267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8129160" cy="6097320"/>
            <a:chOff x="0" y="0"/>
            <a:chExt cx="8129160" cy="6097320"/>
          </a:xfrm>
        </p:grpSpPr>
        <p:sp>
          <p:nvSpPr>
            <p:cNvPr id="82"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304000"/>
              <a:ext cx="8126280" cy="2622600"/>
              <a:chOff x="0" y="2304000"/>
              <a:chExt cx="8126280" cy="2622600"/>
            </a:xfrm>
          </p:grpSpPr>
          <p:sp>
            <p:nvSpPr>
              <p:cNvPr id="119"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2"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PlaceHolder 3"/>
          <p:cNvSpPr>
            <a:spLocks noGrp="1"/>
          </p:cNvSpPr>
          <p:nvPr>
            <p:ph type="dt" idx="4"/>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4E0F-F1FD-4360-BABE-FD729B12AB1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phschool.com/"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phschool.com/" TargetMode="External"/><Relationship Id="rId2" Type="http://schemas.openxmlformats.org/officeDocument/2006/relationships/hyperlink" Target="http://www.phscho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2509B2EA-96D1-411F-895E-B333E114BA56}"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8-1 Energy and Life</a:t>
            </a:r>
            <a:endParaRPr b="0" lang="en-US" sz="3900" spc="-1" strike="noStrike">
              <a:solidFill>
                <a:srgbClr val="ffffff"/>
              </a:solidFill>
              <a:latin typeface="Arial"/>
            </a:endParaRPr>
          </a:p>
        </p:txBody>
      </p:sp>
      <p:sp>
        <p:nvSpPr>
          <p:cNvPr id="164" name="PlaceHolder 2"/>
          <p:cNvSpPr>
            <a:spLocks noGrp="1"/>
          </p:cNvSpPr>
          <p:nvPr>
            <p:ph/>
          </p:nvPr>
        </p:nvSpPr>
        <p:spPr>
          <a:xfrm>
            <a:off x="406440" y="1422360"/>
            <a:ext cx="7392960" cy="3532320"/>
          </a:xfrm>
          <a:prstGeom prst="rect">
            <a:avLst/>
          </a:prstGeom>
          <a:noFill/>
          <a:ln w="0">
            <a:noFill/>
          </a:ln>
        </p:spPr>
        <p:txBody>
          <a:bodyPr lIns="81360" rIns="81360" tIns="40680" bIns="40680" anchor="t">
            <a:normAutofit/>
          </a:bodyPr>
          <a:p>
            <a:pPr marL="304920" indent="-304920">
              <a:spcBef>
                <a:spcPts val="601"/>
              </a:spcBef>
              <a:buSzPct val="107944"/>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ivide into small groups and think of 10 living things in each group.  Classify each organism as heterotroph or autotroph.  Which animals can you think of that are difficult to classify?</a:t>
            </a:r>
            <a:endParaRPr b="0" lang="en-US" sz="2400" spc="-1" strike="noStrike">
              <a:solidFill>
                <a:srgbClr val="ffffff"/>
              </a:solidFill>
              <a:latin typeface="Arial"/>
            </a:endParaRPr>
          </a:p>
          <a:p>
            <a:pPr marL="304920" indent="-304920">
              <a:spcBef>
                <a:spcPts val="601"/>
              </a:spcBef>
              <a:buSzPct val="107944"/>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u="sng">
                <a:solidFill>
                  <a:srgbClr val="86d1ec"/>
                </a:solidFill>
                <a:uFillTx/>
                <a:latin typeface="Arial"/>
                <a:hlinkClick r:id="rId3"/>
              </a:rPr>
              <a:t>WWW.PHSchool.com</a:t>
            </a:r>
            <a:endParaRPr b="0" lang="en-US" sz="2400" spc="-1" strike="noStrike">
              <a:solidFill>
                <a:srgbClr val="ffffff"/>
              </a:solidFill>
              <a:latin typeface="Arial"/>
            </a:endParaRPr>
          </a:p>
          <a:p>
            <a:pPr marL="304920" indent="-304920">
              <a:spcBef>
                <a:spcPts val="601"/>
              </a:spcBef>
              <a:buSzPct val="107944"/>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BD-3081</a:t>
            </a:r>
            <a:endParaRPr b="0" lang="en-US" sz="2400" spc="-1" strike="noStrike">
              <a:solidFill>
                <a:srgbClr val="ffffff"/>
              </a:solidFill>
              <a:latin typeface="Arial"/>
            </a:endParaRPr>
          </a:p>
          <a:p>
            <a:pPr marL="304920" indent="-304920">
              <a:spcBef>
                <a:spcPts val="601"/>
              </a:spcBef>
              <a:buSzPct val="107944"/>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o questions section 8-1</a:t>
            </a:r>
            <a:endParaRPr b="0" lang="en-US" sz="2400" spc="-1" strike="noStrike">
              <a:solidFill>
                <a:srgbClr val="ffffff"/>
              </a:solidFill>
              <a:latin typeface="Arial"/>
            </a:endParaRPr>
          </a:p>
          <a:p>
            <a:pPr marL="304920" indent="0">
              <a:spcBef>
                <a:spcPts val="601"/>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 dur="5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7" dur="500"/>
                                        <p:tgtEl>
                                          <p:spTgt spid="164">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0" dur="500"/>
                                        <p:tgtEl>
                                          <p:spTgt spid="164">
                                            <p:txEl>
                                              <p:pRg st="4" end="4"/>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3" dur="500"/>
                                        <p:tgtEl>
                                          <p:spTgt spid="16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2364525A-75CF-4458-8ADD-EE2CABD5D5DD}"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500" spc="-1" strike="noStrike" u="sng">
                <a:solidFill>
                  <a:srgbClr val="86d1ec"/>
                </a:solidFill>
                <a:uFillTx/>
                <a:latin typeface="Arial"/>
                <a:hlinkClick r:id="rId1"/>
              </a:rPr>
              <a:t>www.PHSchool.com</a:t>
            </a:r>
            <a:br>
              <a:rPr sz="3500"/>
            </a:br>
            <a:r>
              <a:rPr b="0" lang="en-US" sz="3500" spc="-1" strike="noStrike">
                <a:solidFill>
                  <a:srgbClr val="ffffff"/>
                </a:solidFill>
                <a:latin typeface="Arial"/>
              </a:rPr>
              <a:t>cbp-3083</a:t>
            </a:r>
            <a:endParaRPr b="0" lang="en-US" sz="3500" spc="-1" strike="noStrike">
              <a:solidFill>
                <a:srgbClr val="ffffff"/>
              </a:solidFill>
              <a:latin typeface="Arial"/>
            </a:endParaRPr>
          </a:p>
        </p:txBody>
      </p:sp>
      <p:sp>
        <p:nvSpPr>
          <p:cNvPr id="189" name="Text Box 5"/>
          <p:cNvSpPr/>
          <p:nvPr/>
        </p:nvSpPr>
        <p:spPr>
          <a:xfrm>
            <a:off x="1779480" y="2516040"/>
            <a:ext cx="46483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2"/>
              </a:rPr>
              <a:t>www.PHSchool.com</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bp-308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DFF4CEC7-9B25-4C7F-A3BA-B33A2BFCB37D}"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67"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Lab Set up. (10 minutes) quick lab p. 2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A4FB60BF-B049-4B55-B1D4-5DD0DA852A25}"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0" name="PlaceHolder 1"/>
          <p:cNvSpPr>
            <a:spLocks noGrp="1"/>
          </p:cNvSpPr>
          <p:nvPr>
            <p:ph type="title"/>
          </p:nvPr>
        </p:nvSpPr>
        <p:spPr>
          <a:xfrm>
            <a:off x="407520" y="-227520"/>
            <a:ext cx="7317000" cy="101628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pic>
        <p:nvPicPr>
          <p:cNvPr id="171" name="Picture 5" descr="photosynthesis"/>
          <p:cNvPicPr/>
          <p:nvPr/>
        </p:nvPicPr>
        <p:blipFill>
          <a:blip r:embed="rId1"/>
          <a:stretch/>
        </p:blipFill>
        <p:spPr>
          <a:xfrm>
            <a:off x="1368360" y="534960"/>
            <a:ext cx="4678560" cy="55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F562DFBC-5FA0-4857-9A83-F637667A347A}"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sp>
        <p:nvSpPr>
          <p:cNvPr id="174"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pic>
        <p:nvPicPr>
          <p:cNvPr id="175" name="Picture 5" descr="equation_photosynthesis"/>
          <p:cNvPicPr/>
          <p:nvPr/>
        </p:nvPicPr>
        <p:blipFill>
          <a:blip r:embed="rId1"/>
          <a:stretch/>
        </p:blipFill>
        <p:spPr>
          <a:xfrm>
            <a:off x="331920" y="1220760"/>
            <a:ext cx="7391160" cy="48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1273FB58-09ED-4F83-8934-CF5049E11C8B}"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7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Quick Lab Result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What do you see?</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do you know what it i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can we prove it? (glowing stick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B021B7E5-00B2-447F-BE0C-9EEE14542145}"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1" name="PlaceHolder 1"/>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Please Complete Section Assessment 8-2 on page 2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5:13:26Z</dcterms:created>
  <dc:creator>Stacy - McGraw-Hill Higher Education</dc:creator>
  <dc:description/>
  <dc:language>en-US</dc:language>
  <cp:lastModifiedBy>IBM</cp:lastModifiedBy>
  <dcterms:modified xsi:type="dcterms:W3CDTF">2007-10-03T02:20:09Z</dcterms:modified>
  <cp:revision>21</cp:revision>
  <dc:subject/>
  <dc:title>PowerPoint Presentation</dc:title>
</cp:coreProperties>
</file>