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applause.wav" ContentType="audio/x-wav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9C1B7-4F45-4733-B2E7-541489CCB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9AFA5B-69AE-463B-B7C1-2EBA9BB83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A9C95F-B1A2-43C0-BF5A-A277D6F5D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502A7B-2FE3-4598-8A8F-9717F1EA6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21869-F5E2-49B7-B128-662EFDFCA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735C1-64E5-43FF-874E-41D6EBD41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271C5-2491-4178-BFF6-1CB4020AA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BF828-77A7-48E4-A10C-149D13B40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82577-A5E8-4E79-A970-21D4230F6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A7DE9-F5E7-4E58-AA30-07A96D4DD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280D0-5DD0-415E-B765-7F629812A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7E3434-7AA2-48B5-AE46-41E85F98C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41F90-119B-47C7-B48F-BE0B2D08F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226FB-E361-41E8-85A0-BBE915A88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FBC95-B5CA-4318-86C7-EE671F645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62253-3300-4858-93F8-8F9438C81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C6B6B-284C-4AFC-9D7E-0EBFFE221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7191B3-24C9-4AEB-A88D-C1F3BCD16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37611-540F-43F2-BC2A-F9AB76911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F9F8BD-E3A5-4D9E-B2D5-813B33E9A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D4859B-54E9-49B6-BB2A-31E8592F5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2C617-DE4A-4CAE-954A-6B25F616F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35FF72-F35D-4178-95D8-4A0F95829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1A6332-BFA5-42E9-B81A-8676EC3D4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E8449-4A5B-4152-AF2D-FF410334972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CB3B0-3DA7-4D1C-A8BD-8F2ECE23F29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63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Types of Mutations</a:t>
            </a:r>
            <a:br>
              <a:rPr sz="4500"/>
            </a:b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971440" y="4267080"/>
            <a:ext cx="57913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ingle Base Mutations</a:t>
            </a:r>
            <a:br>
              <a:rPr sz="2600"/>
            </a:b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• Chromosomal Mutations</a:t>
            </a:r>
            <a:br>
              <a:rPr sz="2600"/>
            </a:b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523880" y="762120"/>
            <a:ext cx="678204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600200" y="685800"/>
            <a:ext cx="670572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Down’s Syndrom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523880" y="1652760"/>
            <a:ext cx="6705720" cy="42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240" y="2743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Done…. Like Dinner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tations caused by single b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wo types</a:t>
            </a:r>
            <a:br>
              <a:rPr sz="2600"/>
            </a:br>
            <a:br>
              <a:rPr sz="26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 Point (base-substitution) mutation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Frameshift mut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Point mutations</a:t>
            </a:r>
            <a:br>
              <a:rPr sz="3900"/>
            </a:b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ee possible outco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1. Silent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UAC to UAU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2. Missens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t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UAC to CAC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ubstitution of one amino acid for another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3. Nonsens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t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UAC to UAG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Results in stop codon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Frameshift mutation</a:t>
            </a:r>
            <a:br>
              <a:rPr sz="3900"/>
            </a:b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ertion or deletion of a b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ults in an entirely different sequence of amino acids from the point of insertion or dele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676160" y="456840"/>
            <a:ext cx="70102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aring point and frameshift mutation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CATANDDOGEATANDRU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ATANDDOGEATANDRU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ATANDDOGEATANDRU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CATANDDOGEATANDRU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if the C in CAT was changed to an R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if the C in CAT was delete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676520" y="696960"/>
            <a:ext cx="6933960" cy="50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600200" y="457200"/>
            <a:ext cx="69343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523880" y="689040"/>
            <a:ext cx="731520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523880" y="789120"/>
            <a:ext cx="7315200" cy="49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30T01:10:44Z</dcterms:created>
  <dc:creator>ASB</dc:creator>
  <dc:description/>
  <dc:language>en-US</dc:language>
  <cp:lastModifiedBy>ASB</cp:lastModifiedBy>
  <dcterms:modified xsi:type="dcterms:W3CDTF">2008-01-30T01:22:45Z</dcterms:modified>
  <cp:revision>3</cp:revision>
  <dc:subject/>
  <dc:title>Types of Mutations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