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A5C7-A67F-485A-A32A-CE2C8B2C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872A-AA61-4772-8116-176C18B4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4B45-7081-4592-B429-AE3D2D45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4674-5739-4F99-B20F-49C04C13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E0EC-43EB-45AF-A073-6519E7A4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2F11-4363-4286-8D8B-CAA02CEE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4330-ECD7-4C88-8B9A-BF98DB4A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F99F-8260-4ECA-8851-9679FF45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DDC3-BED0-4A94-A5EA-CDFE76BD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646C-1D3B-4C22-81A3-550E3D89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0519-C231-42CA-84F8-251D8978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A3BB-8352-44DD-8E39-D15F7AF3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32C8-0166-45AF-B1F1-23ACEF02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FFFA-E300-4E97-BBBF-9EBF5EF5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B5D7-AB55-4EED-B4CA-EA2E462A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5418-E668-4DF9-B3D4-E2ED7675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C115-442E-4C9F-8C84-C5977B8F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C6C94-F803-4D4E-B4C8-525E38D6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BF6B9-3C1E-466F-AF11-8D796A7D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CEF0-6BA6-4952-8187-F77F3A0C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7621-D10A-4544-A584-004F4350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E351-13D8-4701-8F37-BE3606C6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28BD8-00F3-4A67-BD92-E6C554C1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3B9FB-46E0-423F-8CD4-035860CB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7743-2535-48AE-BA5D-89A52E93C0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F503-1654-4B51-8FEE-0F751F96E0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ypes of Mutations</a:t>
            </a: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gle Base Mutations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• Chromosomal Mutations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67820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70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own’s Syndrom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1652760"/>
            <a:ext cx="67057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one…. Like Dinne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ations caused by single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types</a:t>
            </a:r>
            <a:br>
              <a:rPr sz="2600"/>
            </a:br>
            <a:br>
              <a:rPr sz="2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Point (base-substitution) mutatio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Frameshift 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int mutations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possibl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1. Sil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UA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. Missen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CA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bstitution of one amino acid for anoth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 Nonsen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UA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sults in stop cod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ameshift mutation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ion or deletion of a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in an entirely different sequence of amino acids from the point of insertion or de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76160" y="45684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ng point and frameshift mut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C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C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the C in CAT was changed to an 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the C in CAT was dele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696960"/>
            <a:ext cx="69339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934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3880" y="689040"/>
            <a:ext cx="73152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789120"/>
            <a:ext cx="73152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1:10:44Z</dcterms:created>
  <dc:creator>ASB</dc:creator>
  <dc:description/>
  <dc:language>en-US</dc:language>
  <cp:lastModifiedBy>ASB</cp:lastModifiedBy>
  <dcterms:modified xsi:type="dcterms:W3CDTF">2008-01-30T01:22:45Z</dcterms:modified>
  <cp:revision>3</cp:revision>
  <dc:subject/>
  <dc:title>Types of Mutation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