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B125-E143-426A-B11E-6BEE910F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B716-8C74-4280-8B5A-010B9B79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88C2-B2D9-4BE9-B1D4-CD770DF2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5730-E7A0-49CB-A057-C598B476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BA86-8DAF-4818-8FE9-1D7C46D6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2BCA-931C-43BC-AF02-9F81D83D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3AC5-FF60-447A-9E12-2FCC320B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BFD5-9DEE-4C65-A0AC-9A904881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A8C5-C9AC-4671-AB25-04D66A8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541D-9EE3-4C46-A8A3-264DC298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9FDC-D233-4D3C-9051-C22F6253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BEBDF-8F23-4926-9D35-CEC450FF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B56D-DB28-49B1-B3A1-261F968D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4B50-8BA4-495E-88D1-50BFF60A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1260-6D67-4836-BE60-0459A3CB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F143-0D65-4C4D-BF71-960D9D45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3C00-FDB9-4077-B846-02747982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E879-BCBB-41FF-B574-FA6F8629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E2D8-F165-4A4A-ABF5-5882E471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2298-D2DA-433A-8CC9-E67234D7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B81C-5ECC-4E36-BCD9-EF69F7ED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405F-D9D5-4A4B-9958-81EC225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3491-1F47-48F2-A3EB-1E8CEAA1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9A32-37CE-4D66-84D7-62C48712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6D58-85E2-4D4B-ACFE-67A8810E94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ED9F-5778-4CD3-BF6A-A31EBCD7F1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ypes of Mutations</a:t>
            </a: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gle Base Mutation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Chromosomal Mutations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782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70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wn’s Syndro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1652760"/>
            <a:ext cx="67057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ne…. Like Dinne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ions caused by single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types</a:t>
            </a:r>
            <a:br>
              <a:rPr sz="2600"/>
            </a:br>
            <a:br>
              <a:rPr sz="2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Point (base-substitution) muta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Frameshift 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int mutations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possibl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. Sil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Mis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CA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titution of one amino acid for anoth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 Non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sults in stop cod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ameshift mutation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ion or deletion of a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in an entirely different sequence of amino acids from the point of insertion or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76160" y="45684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point and frameshift mut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changed to an 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dele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696960"/>
            <a:ext cx="69339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689040"/>
            <a:ext cx="73152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789120"/>
            <a:ext cx="73152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1:10:44Z</dcterms:created>
  <dc:creator>ASB</dc:creator>
  <dc:description/>
  <dc:language>en-US</dc:language>
  <cp:lastModifiedBy>ASB</cp:lastModifiedBy>
  <dcterms:modified xsi:type="dcterms:W3CDTF">2008-01-30T01:22:45Z</dcterms:modified>
  <cp:revision>3</cp:revision>
  <dc:subject/>
  <dc:title>Types of Mutation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