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ABC9-EEBD-46C9-B2C2-FF4C2BFE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A5EB-ED7E-4563-AD21-93680E19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738D-6ED4-44EE-A52F-D90705D1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AAA5-5B88-43CD-8399-97FAFF51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DA79-78E2-4C5E-ACB3-3FD71949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F4D9-F42A-45CF-B45B-F1E8C10F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2F77-16F2-497E-8913-E2F0FC54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17E8-9B34-4F2D-9E77-072AAC07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A589-B387-49D3-8CB8-05559DAD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82D7-FD23-4A3E-B4A7-436EDFEF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6A70-0FEA-4821-B4B0-DC2AFDEE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3EF0-B9AB-4A2B-86F3-118ECEB5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2B17-9F31-4514-85BA-93221BE8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7EB5-9702-483C-9B6B-2E96E858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13A1-090B-482B-83F6-3D5CF4FC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998F-5CBE-4EAC-8719-49121C38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67C0-6E4C-4D4D-B8BC-CDF8A36D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EF2E-32AA-45FA-9835-A1C6F12D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C6B5-FBA3-4C5D-AFE3-9930A2BF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88EA-6F5C-4262-9A35-97E140C3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7C7FA-ED0B-4FE3-9CC5-CC5A5B98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0F9A-BBA5-4D59-BF47-94C53EED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31EE-97B7-4C1F-827E-0AD03DC9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AA4F-600F-4D09-8E41-A394881E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400C-C070-4662-B07F-3F26EDFE47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0E79-815F-4AC9-A0B5-BC661361C5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ypes of Mutations</a:t>
            </a: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gle Base Mutations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• Chromosomal Mutations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782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70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wn’s Syndro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1652760"/>
            <a:ext cx="67057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ne…. Like Dinne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tions caused by single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types</a:t>
            </a:r>
            <a:br>
              <a:rPr sz="2600"/>
            </a:br>
            <a:br>
              <a:rPr sz="2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Point (base-substitution) mutat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Frameshift 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int mutations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possibl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. Sil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UA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 Missen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CA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bstitution of one amino acid for anoth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 Nonsen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UA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sults in stop cod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ameshift mutation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ion or deletion of a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in an entirely different sequence of amino acids from the point of insertion or de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76160" y="45684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point and frameshift mut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C in CAT was changed to an 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C in CAT was dele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696960"/>
            <a:ext cx="69339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93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3880" y="689040"/>
            <a:ext cx="73152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789120"/>
            <a:ext cx="73152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1:10:44Z</dcterms:created>
  <dc:creator>ASB</dc:creator>
  <dc:description/>
  <dc:language>en-US</dc:language>
  <cp:lastModifiedBy>ASB</cp:lastModifiedBy>
  <dcterms:modified xsi:type="dcterms:W3CDTF">2008-01-30T01:22:45Z</dcterms:modified>
  <cp:revision>3</cp:revision>
  <dc:subject/>
  <dc:title>Types of Mutation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