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applause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9660B-6D92-4780-AC77-3234AB23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79780-7C64-44A3-A06D-3C51FA38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C901B-35A6-4B9B-89A3-9A53CC0E7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67E23-4115-455C-B79B-CAEFD664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BB31-3738-4C27-B6F3-F822CAB0C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2C78-834A-4DE2-9E56-5F09A71A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41D0-50AA-4B2F-A57A-975D5F01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B54F-32A1-40C9-BDC2-2E26B655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1089-48A9-4F6D-AE5D-F960FBCD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C8BF-C93A-42B4-8610-2BF9C063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F0A3-51C1-4F2C-ABC1-ABCED9CB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AF7DD-793F-4F73-B2D4-3CB93F67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FCA8-3F20-47FC-91A6-E38BB92D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C607-B047-442C-9524-1204EA1C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6A2E-D8EE-4D65-8163-1F5B63F8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42AA-7E65-4D6A-9085-F9CA9BF2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4ECB-816A-495A-8C9E-94EE05E37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D2378-AD1D-4B09-8D98-089C0ADC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7B9AC-358F-4CA6-80C4-53AFD10F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03B1A-233A-485B-BFDD-D5F6B9C6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52238-AECB-4D93-8DAE-4A9F6111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3B688-9CEB-43CF-BAD9-D9AD4352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CF060-53DF-4F15-B562-DABEBE71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B7D9C-DED1-426E-96F9-33F3614C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3E37-EA13-4C9F-8CE9-56E5AF9CDE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12A6-64E0-46BD-B358-D018D382E2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ypes of Mutations</a:t>
            </a:r>
            <a:br>
              <a:rPr sz="4500"/>
            </a:b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ngle Base Mutations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• Chromosomal Mutations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3880" y="762120"/>
            <a:ext cx="67820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00200" y="685800"/>
            <a:ext cx="670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Down’s Syndrom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23880" y="1652760"/>
            <a:ext cx="670572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743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Done…. Like Dinner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tations caused by single 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wo types</a:t>
            </a:r>
            <a:br>
              <a:rPr sz="2600"/>
            </a:br>
            <a:br>
              <a:rPr sz="2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Point (base-substitution) mutation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Frameshift mu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oint mutations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possible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1. Silen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AC to UAU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2. Missens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AC to CAC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ubstitution of one amino acid for anothe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3. Nonsens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AC to UA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esults in stop cod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rameshift mutation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ion or deletion of a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in an entirely different sequence of amino acids from the point of insertion or del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676160" y="45684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ing point and frameshift mut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CATANDDOGEATAND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ATANDDOGEATAND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ATANDDOGEATAND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CATANDDOGEATAND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f the C in CAT was changed to an 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f the C in CAT was dele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76520" y="696960"/>
            <a:ext cx="693396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6934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3880" y="689040"/>
            <a:ext cx="73152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3880" y="789120"/>
            <a:ext cx="731520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01:10:44Z</dcterms:created>
  <dc:creator>ASB</dc:creator>
  <dc:description/>
  <dc:language>en-US</dc:language>
  <cp:lastModifiedBy>ASB</cp:lastModifiedBy>
  <dcterms:modified xsi:type="dcterms:W3CDTF">2008-01-30T01:22:45Z</dcterms:modified>
  <cp:revision>3</cp:revision>
  <dc:subject/>
  <dc:title>Types of Mutation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