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A48E-F76F-473F-8017-15C82F31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D290-2E03-42D8-8E44-087EF4B4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FE85-3A08-4268-91C3-238BBBB3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4886-4A1B-4613-931F-C3D4E543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13B6-5D81-452F-965A-EFA256FF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7545-7962-4074-B75A-DC8C1F8A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2DF2-E4E0-42E4-BEE2-1CF3F0F1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8E54-9669-485D-BD44-CC5B29DA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7EA7-2ACA-48D8-A1A2-6587A4E3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E59F-2976-4EFC-A598-FBDC6A98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BBF4-E66E-4501-92EF-3B122E4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192C-839F-42F0-B8D2-5878B278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3E18-8C75-4521-B7E8-7D64DA5E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1F80-09AB-48BD-A268-77122730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E08D-3C83-4894-8259-D1566F2D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88F9-1549-4FF7-9C9E-89493A86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144A-EB5D-487F-BD86-04EC6F7A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BD01-EA8A-4161-854B-DB2F2CD9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4EEF-AA26-4219-A101-95D287D6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F56F-68F5-4707-BF9A-7498ED5A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6935-FE16-4D54-B041-95273CD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F4D6-4056-4AC7-9C59-5F1FBB7F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18DC-324B-4683-9862-56609F90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9C3E-A988-430B-942A-787F60EA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9826-F4F9-465E-8985-747D09965B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D9A0-5F80-4638-91D9-B8A6FD8566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11-3 Exploring Mendelian Genetic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923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50920" y="3429000"/>
            <a:ext cx="2952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YY x rr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efine Independent Assortment in your own word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Princip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 are passed on from parents to their off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ase when there are 2 or more alleles for one gene, one may be dominant and one rec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regation of genes happens during me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leles that are segregated, segregate independ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complete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2556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allele is not completely dominant over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6227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lleles contribute to the 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878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ltiple alle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two alleles control a tr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3573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lygenic Trai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s are controlled by 2 or more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. Eye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(4 ge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f you haven’t done 11.3 assessment questions.. Do them now.  If you have lets go through the answers</a:t>
            </a:r>
            <a:r>
              <a:rPr b="0" lang="en-US" sz="4000" spc="-1" strike="noStrike">
                <a:solidFill>
                  <a:srgbClr val="dfdef6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3:05:28Z</dcterms:created>
  <dc:creator>IBM</dc:creator>
  <dc:description/>
  <dc:language>en-US</dc:language>
  <cp:lastModifiedBy>IBM</cp:lastModifiedBy>
  <dcterms:modified xsi:type="dcterms:W3CDTF">2007-01-31T03:26:19Z</dcterms:modified>
  <cp:revision>3</cp:revision>
  <dc:subject/>
  <dc:title>11-3 Exploring Mendelian 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