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1DCC9-3302-46CE-87E9-6BEE0D684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A7269-5A08-447D-BD88-2DA3A0FE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0D84D-5097-450D-A170-E075E7184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0A90C-8EAD-400B-B7D1-A5FE3A4E7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2066-2CE5-4723-820B-86732743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415E-9F17-4205-8489-FAB496BF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8870-0AC4-43FB-BDAD-5736CC5F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84CF-4ECD-4294-B807-83BABAA6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1254-FC50-465D-899A-A8D9F245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D406-7601-4B18-9619-55258D6A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3BD8-A0F3-48E3-A200-831286B5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A2F63-1F3C-489B-90BC-953551EE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A0FF-BEEA-4F0A-A298-817BE7D8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AD6D-6A78-4896-B253-16810D37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6EB3-9297-4AAE-BBB7-969C986A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2F4A-F7C9-477B-919B-C0020FD17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F6F0-D687-46D3-A5B4-F27461481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71970-663E-4396-8175-8E31352D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D840B-B1A3-416D-BE1C-2747726E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C6A07-EA30-448A-80F9-2EE6E61F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BB057-626A-4147-8634-7D6BFFD4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EFE17-039B-47AB-A1A2-DB883EF0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48100-70CD-49D4-BCE2-271A2EE8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871C3-BAB8-4DDA-9BFE-7C763F56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8B27-2828-46C0-AFC9-44C1F35363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31F0-AEB5-4441-A6B2-276BC0EB4B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11-3 Exploring Mendelian Genetic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349236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dependent Assort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3643200" y="0"/>
            <a:ext cx="550080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250920" y="3429000"/>
            <a:ext cx="2952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2 Factor Cross: F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RYY x rr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es it give u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2 Factor Cross: F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es it give u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Define Independent Assortment in your own word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endel’s Principl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 are passed on from parents to their offsp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case when there are 2 or more alleles for one gene, one may be dominant and one reces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gregation of genes happens during mei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lleles that are segregated, segregate independen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complete Domina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25560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allele is not completely dominant over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2916360" y="1268280"/>
            <a:ext cx="62276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 domina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alleles contribute to the pheno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38782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ultiple allel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than two alleles control a tra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357372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olygenic Trai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ts are controlled by 2 or more ge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. Eye col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n color (4 gen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6836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If you haven’t done 11.3 assessment questions.. Do them now.  If you have lets go through the answers</a:t>
            </a:r>
            <a:r>
              <a:rPr b="0" lang="en-US" sz="4000" spc="-1" strike="noStrike">
                <a:solidFill>
                  <a:srgbClr val="dfdef6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03:05:28Z</dcterms:created>
  <dc:creator>IBM</dc:creator>
  <dc:description/>
  <dc:language>en-US</dc:language>
  <cp:lastModifiedBy>IBM</cp:lastModifiedBy>
  <dcterms:modified xsi:type="dcterms:W3CDTF">2007-01-31T03:26:19Z</dcterms:modified>
  <cp:revision>3</cp:revision>
  <dc:subject/>
  <dc:title>11-3 Exploring Mendelian Geneti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