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3270-176A-42D5-8629-F14CB497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CECC-B9E0-4E95-90D9-1F9136CC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2B7C-3C11-4897-A283-15C43BD4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D1B0-6E17-45DC-9E14-7641191F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8CAA-A0A1-40AF-8D18-6A0B5705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B3E-5240-4E72-8117-02E56CA0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E2F2-8F64-4BF2-A8CD-59E603A9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60FC-B356-49C1-BFD8-64373E6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3B6A-1F18-42BB-B2A4-A711B2BE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8AF7-A1D9-4254-A2F4-7839425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4D28-EA6E-4CAC-A890-1CAC3F0C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9B8B-E3B3-49D5-A2D4-C91C75FF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74B3-3D3D-4706-9883-94BA6AB7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3C3-902A-45A8-A381-73F4A03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A50-667B-40A3-804D-A14E04A3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9F73-D161-49D5-B215-DF5CB7BF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B799-40B7-494F-AE27-95CF59DF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59B1-776E-4A3D-A282-843CD7A5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7671-923B-4A37-936E-A155805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F8BF-505B-4461-8049-FF5FC16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2A53-A6B9-43E3-8D28-5CCD449F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C4ED-4A17-4FAF-BC42-81EA69C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30F2-CAEF-4818-B132-9F92D13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56F5-F84E-4B4B-AEF3-82D425B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9011-AA5F-4828-B13F-C896BBB95B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034-FD2D-46B0-8E05-3214EB32B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11-3 Exploring Mendelian Genetic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50920" y="3429000"/>
            <a:ext cx="295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YY x rr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fine Independent Assortment in your own wor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are passed on from parents to their 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ase when there are 2 or more alleles for one gene, one may be dominant and one rec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regation of genes happens during 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s that are segregated, segregate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2556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llele is not completely dominant ove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227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lleles contribute to the 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78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le alle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two alleles control a 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573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lygenic Trai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s are controlled by 2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Eye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(4 ge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f you haven’t done 11.3 assessment questions.. Do them now.  If you have lets go through the answers</a:t>
            </a:r>
            <a:r>
              <a:rPr b="0" lang="en-US" sz="4000" spc="-1" strike="noStrike">
                <a:solidFill>
                  <a:srgbClr val="dfdef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05:28Z</dcterms:created>
  <dc:creator>IBM</dc:creator>
  <dc:description/>
  <dc:language>en-US</dc:language>
  <cp:lastModifiedBy>IBM</cp:lastModifiedBy>
  <dcterms:modified xsi:type="dcterms:W3CDTF">2007-01-31T03:26:19Z</dcterms:modified>
  <cp:revision>3</cp:revision>
  <dc:subject/>
  <dc:title>11-3 Exploring Mendelian 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