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FB33-7882-47BD-89EE-7757F07E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7DEA-C677-4CD4-B3E8-54A0022D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7827-FE7B-4E2A-A7A6-2D1055B6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7730-76D9-45DB-9302-45493F62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666E-8684-471E-9A5E-060A5629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78CD-6004-4C99-9F4F-C11B1C9E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D87A-1D29-4E3F-B06B-B72F69E0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6921-3881-40BE-8DAC-B5E781FC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E43E-FF4E-423E-8347-7DCB65EB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2CC9-E296-4BB8-B17A-C6815323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715E-77D4-497B-92FD-8CBF599C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4693-2287-4D1A-AF65-6877315B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9B49-00CD-4A62-B940-D2A47BFD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A646-160B-4B79-A008-1DD98854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85A5-B349-4D18-A71F-5D020263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311B-83E1-46DE-BA5C-39572C0C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3866-0477-489B-B456-7097FDCD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F73E-3279-467F-BC48-B1EE9432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DD82-3D2C-4494-897E-15299FA7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9EB2-C2E4-49A9-B7D6-A5851879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0596-CF07-43EF-BC72-0526DB22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7805-0A46-456E-9F8B-03C0DD8F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5BC0-ECFE-464E-A9F4-BE8AE35B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EE44-2DBA-4B57-A389-3899433A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9AA4-5645-4D4C-A6CE-66C79B6C3C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B40D-2FD7-44F2-803A-328EEC19B1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11-3 Exploring Mendelian Genetic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49236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dependent Assort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3643200" y="0"/>
            <a:ext cx="55008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250920" y="3429000"/>
            <a:ext cx="2952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2 Factor Cross: F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RYY x rr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it give u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2 Factor Cross: F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it give u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efine Independent Assortment in your own word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ndel’s Princip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 are passed on from parents to their offsp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case when there are 2 or more alleles for one gene, one may be dominant and one reces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gregation of genes happens during mei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leles that are segregated, segregate independ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complete Domin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2556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allele is not completely dominant over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6227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 domin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lleles contribute to the 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3878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ultiple alle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two alleles control a tr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35737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olygenic Trai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ts are controlled by 2 or more 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. Eye 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olor (4 ge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If you haven’t done 11.3 assessment questions.. Do them now.  If you have lets go through the answers</a:t>
            </a:r>
            <a:r>
              <a:rPr b="0" lang="en-US" sz="4000" spc="-1" strike="noStrike">
                <a:solidFill>
                  <a:srgbClr val="dfdef6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3:05:28Z</dcterms:created>
  <dc:creator>IBM</dc:creator>
  <dc:description/>
  <dc:language>en-US</dc:language>
  <cp:lastModifiedBy>IBM</cp:lastModifiedBy>
  <dcterms:modified xsi:type="dcterms:W3CDTF">2007-01-31T03:26:19Z</dcterms:modified>
  <cp:revision>3</cp:revision>
  <dc:subject/>
  <dc:title>11-3 Exploring Mendelian Gene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