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EC9B-2B59-43B1-B875-DA3143FF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5325-14F8-49AF-B996-41AD2F67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0572-D8B6-4DED-A77B-0D542877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116D-ACC6-430D-BC51-81BDCE63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7CE3-DCBE-4353-86B2-C61E7D1B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4FC-589F-4362-BCAD-C836F2F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870-3A5C-405A-B282-19957EA2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2FEE-4DE3-4DCD-8E97-9D1F7A86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C59C-09B3-4808-9126-A4FE3BF9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3512-57CC-46BA-94CF-B5622F7E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CB7-205B-42C6-8B84-E5206271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C325-023A-4D57-82D6-33A44681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5F71-9F91-4F5B-A816-E853D126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2C02-F3FB-47C1-9D06-ACAA38C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C3B4-6C41-4648-8317-A7030D9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7C7D-C4DA-449B-91F7-BAACA123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34DE-5302-4C8D-9D5B-02B7FBE5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1612-6E78-45E6-A363-6B42899B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A6F3-23FF-4587-BA46-6E32E27C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9E38-A302-4431-BB96-D247BA5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8DAA-736E-4BF6-AF20-71CFD52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BB0C-84AB-47FB-B970-5182221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A694-8BCF-4B1E-8182-BBF23E0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1608-EF9E-4549-8C60-3330C07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E828-9339-4615-AC49-E934A49FC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C4A5-B482-42F2-92A2-7C5622579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11-3 Exploring Mendelian Genetic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0920" y="3429000"/>
            <a:ext cx="29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YY x rr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2 Factor Cross: F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it give 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fine Independent Assortment in your own wo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Princip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are passed on from parents to their 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ase when there are 2 or more alleles for one gene, one may be dominant and one rec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regation of genes happens during mei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leles that are segregated, segregate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2556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llele is not completely dominant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227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lleles contribute to the 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78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ltiple alle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two alleles control a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573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lygenic Tra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s are controlled by 2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Ey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(4 ge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f you haven’t done 11.3 assessment questions.. Do them now.  If you have lets go through the answers</a:t>
            </a:r>
            <a:r>
              <a:rPr b="0" lang="en-US" sz="4000" spc="-1" strike="noStrike">
                <a:solidFill>
                  <a:srgbClr val="dfdef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05:28Z</dcterms:created>
  <dc:creator>IBM</dc:creator>
  <dc:description/>
  <dc:language>en-US</dc:language>
  <cp:lastModifiedBy>IBM</cp:lastModifiedBy>
  <dcterms:modified xsi:type="dcterms:W3CDTF">2007-01-31T03:26:19Z</dcterms:modified>
  <cp:revision>3</cp:revision>
  <dc:subject/>
  <dc:title>11-3 Exploring Mendelian 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